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4EAF-F74F-4036-BA4F-FFD08E0F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E361-0E5D-4B42-A34E-72B4761A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0BA4-1A65-4048-A297-48040BE4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4B5-5A5B-4978-B84A-3EA4D133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D9CD-5991-48E4-AA71-FB29F15A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021-D0DB-40DC-AF5F-1517BAF9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6358-D95A-4D89-8508-BD95770C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004E-71A7-4A67-B3CF-C74D5571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74DD-5D0D-4228-BB55-41BC43DA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6DAC-3ADC-44CA-9E85-58C2FE82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878-A8A7-4D28-8F20-18710033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B74F-4BEE-4A6E-913F-3845A033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069F-F2F6-4ED3-B165-49AE1FA3E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v.nu.ca/cley/home/english/department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v.nu.ca/Nunavut/English/about/cg.pdf" TargetMode="External"/><Relationship Id="rId2" Type="http://schemas.openxmlformats.org/officeDocument/2006/relationships/hyperlink" Target="http://www.gov.nu.ca/Nunavut/English/about/cg.pdf" TargetMode="External"/><Relationship Id="rId3" Type="http://schemas.openxmlformats.org/officeDocument/2006/relationships/hyperlink" Target="http://www.gov.nu.ca/Nunavut/English/about/cg.pdf" TargetMode="External"/><Relationship Id="rId4" Type="http://schemas.openxmlformats.org/officeDocument/2006/relationships/hyperlink" Target="http://www.gov.nu.ca/Nunavut/English/about/cg.pdf" TargetMode="External"/><Relationship Id="rId5" Type="http://schemas.openxmlformats.org/officeDocument/2006/relationships/hyperlink" Target="http://www.gov.nu.ca/Nunavut/English/about/cg.pdf" TargetMode="External"/><Relationship Id="rId6" Type="http://schemas.openxmlformats.org/officeDocument/2006/relationships/hyperlink" Target="http://www.gov.nu.ca/Nunavut/English/about/cg.pdf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v.nu.ca/Nunavut/English/about/cg.pdf" TargetMode="External"/><Relationship Id="rId2" Type="http://schemas.openxmlformats.org/officeDocument/2006/relationships/hyperlink" Target="http://www.gov.nu.ca/Nunavut/English/about/cg.pdf" TargetMode="External"/><Relationship Id="rId3" Type="http://schemas.openxmlformats.org/officeDocument/2006/relationships/hyperlink" Target="http://www.gov.nu.ca/Nunavut/English/about/cg.pdf" TargetMode="External"/><Relationship Id="rId4" Type="http://schemas.openxmlformats.org/officeDocument/2006/relationships/hyperlink" Target="http://www.gov.nu.ca/Nunavut/English/about/cg.pdf" TargetMode="External"/><Relationship Id="rId5" Type="http://schemas.openxmlformats.org/officeDocument/2006/relationships/hyperlink" Target="http://www.gov.nu.ca/Nunavut/English/about/cg.pdf" TargetMode="External"/><Relationship Id="rId6" Type="http://schemas.openxmlformats.org/officeDocument/2006/relationships/hyperlink" Target="http://www.gov.nu.ca/Nunavut/English/about/cg.pdf" TargetMode="External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ac.nu.ca/publication/vol1/introduction.html" TargetMode="External"/><Relationship Id="rId2" Type="http://schemas.openxmlformats.org/officeDocument/2006/relationships/hyperlink" Target="http://www.nac.nu.ca/publication/vol1/introduction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v.nu.ca/Nunavut/pinasuaqtavut/engcover.pdf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Pigiarniq"/>
              </a:rPr>
              <a:t>ᐊᖏᖃᑎᒌᖕᓂᒃᑯᑦ ᐃᓱᒪᓕᐅᕐᓂᖅ ᐊᒻᒪ ᒪᓕᒐᖏᑦ</a:t>
            </a:r>
            <a:br>
              <a:rPr sz="4000"/>
            </a:br>
            <a:r>
              <a:rPr b="1" i="1" lang="id-ID" sz="4400" spc="-1" strike="noStrike">
                <a:solidFill>
                  <a:srgbClr val="000000"/>
                </a:solidFill>
                <a:latin typeface="Pigiarniq"/>
              </a:rPr>
              <a:t>ᐋᔩᖃᑎᒌᖕᓂᐅᑉ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ᒪᓕᒐᖏᑦ ᐊᒻᒪ ᐱᐅᓯᖏᑦ ᐃᓕᖅᑯᓯᓕᕆᔨᒃᑯᑦ ᐅᖃᐅᓯᓕᕆᔨᒃᑯᑦ, ᐃᓐᓇᑐᖃᓕᕆᔨᒃᑯᑦ ᒪᒃᑯᒃᑐᓕᕆᔨᒃᑯᑦ ᐱᓕᕆᕕᐅᓪᓗ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ᐱᖃᓯᐅᔾᔨᓯᒪᔪᑦ ᐃᓄᐃᑦ ᐃᓕᖅᑯᓯᖏᑦᑕ ᐱᐅᓯᖏᓐᓂᒃ ᐊᖅᑯᑎᒋᓪᓗᒋᑦ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1" i="1" lang="id-ID" sz="2000" spc="-1" strike="noStrike">
                <a:solidFill>
                  <a:srgbClr val="000000"/>
                </a:solidFill>
                <a:latin typeface="Pigiarniq"/>
              </a:rPr>
              <a:t>ᐃᓄᐃᑦ ᖃᐅᔨᒪᔭᑐᖃᖏ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igiarniq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ᑲᔪᖏᖅᓴᐅᑎᖃᖅᑐᑦ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1" i="1" lang="id-ID" sz="2000" spc="-1" strike="noStrike">
                <a:solidFill>
                  <a:srgbClr val="000000"/>
                </a:solidFill>
                <a:latin typeface="Pigiarniq"/>
              </a:rPr>
              <a:t>ᐃᓱᒪᓕᐅᕐᓂᕐᒥᒃ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ᐊᖅᑯᑎᖃᕐᓗᑎᒃ ᑐᓴᕋᓱᐊᕐᓂᒃᑯᑦ ᐊᒻᒪ ᐊᖏᕐᓯᓯᒪᓂᒃᑯᑦ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1" i="1" lang="id-ID" sz="2000" spc="-1" strike="noStrike">
                <a:solidFill>
                  <a:srgbClr val="000000"/>
                </a:solidFill>
                <a:latin typeface="Pigiarniq"/>
              </a:rPr>
              <a:t>ᐊᖏᖃᑎᒌᖕᓂᒃᑯᑦ ᓴᓇᖃᑦᑕᕐᓗᑎᒃ</a:t>
            </a:r>
            <a:r>
              <a:rPr b="1" i="1" lang="en-US" sz="2000" spc="-1" strike="noStrike">
                <a:solidFill>
                  <a:srgbClr val="000000"/>
                </a:solidFill>
                <a:latin typeface="Pigiarniq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ᒪᑐᐃᖓᓗᑎᒃ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1" i="1" lang="id-ID" sz="2000" spc="-1" strike="noStrike">
                <a:solidFill>
                  <a:srgbClr val="000000"/>
                </a:solidFill>
                <a:latin typeface="Pigiarniq"/>
              </a:rPr>
              <a:t>ᐃᓚᐅᓂᕐᒧᑦ ᐊᒻᒪ ᑐᓴᕋᓱᐊᕐᓂᕐᒧᑦ, </a:t>
            </a: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ᐊᒻᒪᓗ ᐊᓯᖏᑕ ᐃᓱᒪᒋᔭᖏᓐᓂᒃ ᐅᐱᒍᓱᒡᓗᑎ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ᑲᔪᖏᖅᓴᐃᔾᔪᑎᖃᕐᓗᑎᒃ ᐃᓅᓯᓕᒫᕐᒧᑦ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1" i="1" lang="id-ID" sz="2000" spc="-1" strike="noStrike">
                <a:solidFill>
                  <a:srgbClr val="000000"/>
                </a:solidFill>
                <a:latin typeface="Pigiarniq"/>
              </a:rPr>
              <a:t>ᐃᓕᓐᓂᐊᕐᓂᕐᒥᒃ</a:t>
            </a:r>
            <a:r>
              <a:rPr b="1" i="1" lang="en-US" sz="2000" spc="-1" strike="noStrike">
                <a:solidFill>
                  <a:srgbClr val="000000"/>
                </a:solidFill>
                <a:latin typeface="Pigiarniq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ov.nu.ca/cley/home/english/department.htm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id-ID" sz="1000" spc="-1" strike="noStrike">
                <a:solidFill>
                  <a:srgbClr val="000000"/>
                </a:solidFill>
                <a:latin typeface="Pigiarniq"/>
              </a:rPr>
              <a:t>ᕖᕝᕗᐊ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4,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Pigiarniq"/>
              </a:rPr>
              <a:t>ᐊᖏᖃᑎᒌᖕᓂᒃᑯᑦ ᐃᓱᒪᓕᐅᕐᓂᖅ</a:t>
            </a:r>
            <a:r>
              <a:rPr b="0" lang="en-US" sz="4000" spc="-1" strike="noStrike">
                <a:solidFill>
                  <a:srgbClr val="000000"/>
                </a:solidFill>
                <a:latin typeface="Pigiarniq"/>
              </a:rPr>
              <a:t>: </a:t>
            </a:r>
            <a:r>
              <a:rPr b="1" lang="id-ID" sz="4000" spc="-1" strike="noStrike">
                <a:solidFill>
                  <a:srgbClr val="000000"/>
                </a:solidFill>
                <a:latin typeface="Pigiarniq"/>
              </a:rPr>
              <a:t>ᐋᔩᖃᑎᒌᖕᓂ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ᐊᔪᕐᓴᖏᓪᓗᓂ ᐃᓅᑦᑎᐊᕐᓂᐊᕐᓗᓂ ᐅᑭᐅᖅᑕᖅᑐᕐᒥ ᐊᑕᓂᖃᓚᐅᖅᑐᖅ ᖃᐅᔨᒪᑦᑎᐊᕐᓗᓂ ᑭᓯᐊᓂ, ᓂᕿᒃᓴᕐᓯᐅᕐᓂᕐᒧᑦ, ᐊᓐᓄᕌᒃᓴᒃᓯᐅᕐᓂᕐᒧᑦ ᐊᒻᒪ ᐊᖏᕐᕋᒃᓴᕐᓯᕐᓂᒧᑦ</a:t>
            </a:r>
            <a:r>
              <a:rPr b="0" lang="en-US" sz="2400" spc="-1" strike="noStrike">
                <a:solidFill>
                  <a:srgbClr val="000000"/>
                </a:solidFill>
                <a:latin typeface="Pigiarniq"/>
              </a:rPr>
              <a:t>”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ᒪᓐᓇ ᑭᓯᐊᓂ</a:t>
            </a:r>
            <a:r>
              <a:rPr b="0" lang="en-US" sz="24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1" i="1" lang="id-ID" sz="2400" spc="-1" strike="noStrike">
                <a:solidFill>
                  <a:srgbClr val="000000"/>
                </a:solidFill>
                <a:latin typeface="Pigiarniq"/>
              </a:rPr>
              <a:t>ᐅᖃᐅᓯᖃᕐᖢᑎᒃ ᐊᑐᓚᐅᕐᓯᒪᔭᒥᖕᓂᒃ ᖃᐅᔨᒪᓂᕆᔭᖕᒥᓂᒃ ᐃᒻᒥᖕᓂᒃ ᑕᑎᒌᖃᑦᑕᐅᑎᓂᒃᑯᑦ ᐊᒻᒪ ᒪᓕᖕᓂᒃᑯᑦ ᖃᐅᔨᒪᓂᖏᓐᓂᒃ ᐃᓐᓇᐅᔪᑦ ᐊᖏᖃᑎᒌᖕᓂᒃᑯᑦ ᐊᖅᑯᑎᖃᕐᖢᑎᒃ, ᑭᓇᒃᑯᓕᒫᓄᑦ ᐊᑲᐅᓂᖅᐹᖑᔪᓂᒃ ᐱᐅᓯᖃᕈᓐᓇᓚᐅᖅᐳᑦ</a:t>
            </a:r>
            <a:r>
              <a:rPr b="0" lang="en-US" sz="2400" spc="-1" strike="noStrike">
                <a:solidFill>
                  <a:srgbClr val="000000"/>
                </a:solidFill>
                <a:latin typeface="Pigiarniq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Pigiarniq"/>
              </a:rPr>
              <a:t>*</a:t>
            </a:r>
            <a:r>
              <a:rPr b="0" i="1" lang="id-ID" sz="900" spc="-1" strike="noStrike">
                <a:solidFill>
                  <a:srgbClr val="000000"/>
                </a:solidFill>
                <a:latin typeface="Pigiarniq"/>
              </a:rPr>
              <a:t>ᐅᖃᓗᕋᐃᑦ</a:t>
            </a:r>
            <a:r>
              <a:rPr b="0" i="1" lang="en-US" sz="900" spc="-1" strike="noStrike">
                <a:solidFill>
                  <a:srgbClr val="000000"/>
                </a:solidFill>
                <a:latin typeface="Pigiarniq"/>
              </a:rPr>
              <a:t>,</a:t>
            </a:r>
            <a:r>
              <a:rPr b="0" i="1" lang="id-ID" sz="9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0" lang="id-ID" sz="900" spc="-1" strike="noStrike">
                <a:solidFill>
                  <a:srgbClr val="000000"/>
                </a:solidFill>
                <a:latin typeface="Pigiarniq"/>
              </a:rPr>
              <a:t>ᐅᓂᒃᑳᖅᑐᐊᑦ ᓄᓇᕗᒥ. ᓄᐊᑕᐅᓯᒪᔪᑦ ᑎᑎᕋᖅᑕᐅᓪᓗᑎᒡᓗ ᔮᓐ ᐱᐊᓇᓐᒧᑦ ᐊᒻᒪ ᓱᓴᓐ ᕋᐅᓕᒧᑦ (ᒪᑭᐅᓪ- ᑯᐃᓐ ᓯᓚᑦᑐᓴᕐᕕᒡᔪᐊᖓᓐᓂ ᑐᓴᒐᒃᓴᑦ</a:t>
            </a:r>
            <a:r>
              <a:rPr b="0" lang="en-US" sz="900" spc="-1" strike="noStrike">
                <a:solidFill>
                  <a:srgbClr val="000000"/>
                </a:solidFill>
                <a:latin typeface="Pigiarniq"/>
              </a:rPr>
              <a:t>, 2004)95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Pigiarniq"/>
              </a:rPr>
              <a:t>ᖃᓄᐃᒻᒪᑦ ᐊᖏᖃᑎᒌᖕᓂᖅ ᐱᒻᒪᕆᐊᓘᕙ</a:t>
            </a:r>
            <a:r>
              <a:rPr b="0" lang="en-US" sz="4000" spc="-1" strike="noStrike">
                <a:solidFill>
                  <a:srgbClr val="000000"/>
                </a:solidFill>
                <a:latin typeface="Pigiarniq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ᑕᐃᒪᓕ ᑭᓇᒃᑯᑐᐃᓐᓇᐃᑦ ᐊᒃᑐᖅᑕᐅᓂᐊᖅᐸᑕ ᓴᖅᑭᑦᑐᒧᑦ, ᐱᒻᒪᕆᐅᕗᖅ ᐃᒪᐃᑦᑑᒃᐸ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800" spc="-1" strike="noStrike">
                <a:solidFill>
                  <a:srgbClr val="000000"/>
                </a:solidFill>
                <a:latin typeface="Pigiarniq"/>
              </a:rPr>
              <a:t>ᑭᓇᒃᑯᓕᒫᑦ ᐃᓚᐅᑎᑕᐅᓗᑎᒃ ᐃᓱᒪᓕᐅᖅᑎᓪᓗᒋᑦ ᐱᓪᓗᒍ ᑕᐃᑦᓱᒪᓂᑐᖃᖅ ᖃᐅᔨᒪᓂᕆᔭᐅᓚᐅᖅᑐᑦ ᐃᓄᖕᓄᑦ ᓇᓗᓇᐃᕐᓯᖕᒪᑦ ᐊᑑᑎᖃᕐᒪᑕ ᑭᓇᒃᑯᓕᒫᑦᑎᐊᑦ ᐱᔪᓐᓇᕐᓂᕆᔭᖏᑦ ᐊᒻᒪ ᐱᓕᕆᔪᒪᓂᕆᔭᖏᑦ ᑲᑐᔾᔭᐅᓪᓗᑎᒃ ᐋᖅᑭᒡᓯᔾᔪᑕᐅᔪᓐᓇᕐᒪᑕ ᐊᑲᐅᓐᖏᓕᐅᕈᑕᐅᔪᒥᒃ</a:t>
            </a:r>
            <a:r>
              <a:rPr b="0" lang="en-US" sz="28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igiarniq"/>
              </a:rPr>
              <a:t>in </a:t>
            </a: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ᐋᖅᑭᒡᓯᔾᔪᑕᐅᓗᓂ ᐅᓄᖅᑐᓂᒃ ᐊᔾᔨᒌᖏᑦᑐᓂᒃ ᐃᓱᒫᓗᒍᑕᐅᔪᓂ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Pigiarniq"/>
              </a:rPr>
              <a:t>ᐱᖃᓯᐅᔾᔨᓗᓂ ᑭᓯᐊᓂ </a:t>
            </a:r>
            <a:r>
              <a:rPr b="1" i="1" lang="id-ID" sz="3200" spc="-1" strike="noStrike">
                <a:solidFill>
                  <a:srgbClr val="000000"/>
                </a:solidFill>
                <a:latin typeface="Pigiarniq"/>
              </a:rPr>
              <a:t>ᐃᓄᐃᑦ ᖃᐅᔨᒪᓂᕆᔭᖏᓐᓂᒃ</a:t>
            </a:r>
            <a:r>
              <a:rPr b="0" lang="id-ID" sz="3200" spc="-1" strike="noStrike">
                <a:solidFill>
                  <a:srgbClr val="000000"/>
                </a:solidFill>
                <a:latin typeface="Pigiarniq"/>
              </a:rPr>
              <a:t> ᓄᐊᑕᐅᓯᒪᔪᓂᒃ ᐊᕐᕌᒍᒐᓴᒡᔪᐊᓄᑦ ᓯᕗᓕᑦᑎᓐᓂᑦ, ᐅᓪᓗᒥᓂᓴᕐᓄᑦ ᐱᔾᔪᑕᐅᔪᓄᑦ ᐊᑐᖅᑕᐅᓗᑎᒃ, ᐊᐅᓚᑦᓯᑦᓯᐊᕈᓐᓇᕋᔭᖅᑐᑦ ᒪᓕᒐᖅᑎᒍᑦ ᐃᓄᖁᑎᒥᖕᓂᒃ ᑭᒡᒐᖅᑐᖅᑎᐅᔪᑦ ᓂᕈᐊᖅᑕᐅᓯᒪᔪ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000000"/>
                </a:solidFill>
                <a:latin typeface="Pigiarniq"/>
              </a:rPr>
              <a:t>ᑕᑯᒋᐊᕐᓂᖅ ᐃᓄᐃᑦ ᓯᕗᓕᕕᓂᖏᓐᓄ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291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ᐆᒪᓂᐊᕐᓗ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ᑕᑎᖃᕆᐊᖃᕐᓇᕐᒪᑦ ᖃᐅᔨᒪᓂᕆᔭᖏᓐᓂᒃ ᐃᓐᓇᑐᖃᐃᑦ ᓄᓇᑦᑎᓐᓃᑦᑐᑦ, ᑕᐃᒪᓐᓇ ᐊᖏᕐᓯᓗᑕ ᐊᒻᒪ ᒪᓕᒃᓯᓗᑕ ᓯᕗᓕᖅᑎᒋᔭᑦᑎᓐᓂ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“</a:t>
            </a: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ᓯᕗᓕᖅᑎᐅᔪᑦ ᐃᓐᓇᐅᒐᔪᓚᐅᖅᑐᑦ, ᑖᒃᑯᐊ ᖃᐅᔨᒪᓂᖅᓴᐅᒐᒥᒃ ᐊᕙᑎᒋᔭᑦᑎᓐᓂᒃ ᖃᐅᔨᒪᓂᖅᓴᐅᒐᒥᒃ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”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ᔨᒥ ᕿᓚᕝᕙᖅ, ᐅᖅᑯᕐᒥᐅᑦ, ᓄᑭᕈᐊ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Pigiarniq"/>
              </a:rPr>
              <a:t>*</a:t>
            </a: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ᐅᖅᑯᕐᒥᐅᑦ, ᐅᓂᒃᑳᖏᑦ ᓯᕗᓕᕕᓂᖏᑦ ᓄᓇᕗᒥᐅᑦ.  ᓄᐊᑕᐅᓯᒪᔪᑦ ᑎᑎᕋᖅᑕᐅᓪᓗᑎᒡᓗ ᔭᓐ ᐱᐊᓇᑦᒧᑦ ᐊᒻᒪ ᓱᓴᓐ ᕋᐅᓕᒧᑦ (ᒪᒋᐅᓪ-ᑯᐃᓐ ᓯᓚᑦᑐᓴᕐᕕᖓᓐᓂ ᑐᓴᒐᒃᓴᑦ</a:t>
            </a:r>
            <a:r>
              <a:rPr b="0" lang="en-US" sz="1200" spc="-1" strike="noStrike">
                <a:solidFill>
                  <a:srgbClr val="000000"/>
                </a:solidFill>
                <a:latin typeface="Pigiarniq"/>
              </a:rPr>
              <a:t> 2004)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4400" spc="-1" strike="noStrike">
                <a:solidFill>
                  <a:srgbClr val="000000"/>
                </a:solidFill>
                <a:latin typeface="Pigiarniq"/>
              </a:rPr>
              <a:t>ᐃᓄᐃᑦ ᖃᐅᔨᒪᔭᑐᖃᖏᑦ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(IQ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Pigiarniq"/>
              </a:rPr>
              <a:t>“</a:t>
            </a:r>
            <a:r>
              <a:rPr b="1" i="1" lang="id-ID" sz="3600" spc="-1" strike="noStrike">
                <a:solidFill>
                  <a:srgbClr val="000000"/>
                </a:solidFill>
                <a:latin typeface="Pigiarniq"/>
              </a:rPr>
              <a:t>ᐃᓄᐃᑦ ᖃᐅᔨᒪᔭᑐᖃᖏᑦ</a:t>
            </a:r>
            <a:r>
              <a:rPr b="0" lang="en-US" sz="3600" spc="-1" strike="noStrike">
                <a:solidFill>
                  <a:srgbClr val="000000"/>
                </a:solidFill>
                <a:latin typeface="Pigiarniq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3200" spc="-1" strike="noStrike">
                <a:solidFill>
                  <a:srgbClr val="000000"/>
                </a:solidFill>
                <a:latin typeface="Pigiarniq"/>
              </a:rPr>
              <a:t>ᑐᑭᒧᐊᒍᑕᐅᓪᓗᑎᒃ ᒪᓕᒐᕆᔭᐅᔪᑦ ᒐᕙᒪᐅᔪᓄᑦ</a:t>
            </a:r>
            <a:r>
              <a:rPr b="1" i="1" lang="en-US" sz="3200" spc="-1" strike="noStrike">
                <a:solidFill>
                  <a:srgbClr val="000000"/>
                </a:solidFill>
                <a:latin typeface="Pigiarniq"/>
              </a:rPr>
              <a:t>.</a:t>
            </a:r>
            <a:r>
              <a:rPr b="1" i="1" lang="id-ID" sz="32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ᐃᓄᐃᑦ ᖃᐅᔨᒪᔭᑐᖃᖏᑦ ᐱᖃᓯᐅᔾᔨᓯᕗᖅ ᐃᓄᐃᑦ ᐱᖅᑯᓯᑐᖃᖏᓐᓄᑦ ᖃᐅᔨᒪᓂᕆᔭᐅᔪᓂᒃ ᐊᒻᒪ ᐱᖅᑯᓯᖓᓐᓂᒃ, ᐊᒻᒪ ᑐᑭᒧᐊᒍᑕᐅᓪᓗᑎᒃ ᒐᕙᒪᒃᑯᓐᓄᑦ ᐃᓱᒪᓕᐅᕈᑕᐅᔪᓄᑦ ᐋᖅᑭᒡᓱᐃᔾᔪᑕᐅᓪᓗᑎᒃ, ᐊᑐᐊᒐᕐᓄᑦ ᐊᒻᒪ ᒪᓕᒐᕐᓄᑦ ᐱᖃᐅᓯᔾᔨᓯᒪᔪᓂᒃ ᐃᓱᒪᒋᔭᐅᔪᓂᒃ, ᐃᓕᖅᑯᕆᔭᐅᔪᓂᒃ ᓄᓇᕗᒥᐅᑦ ᐃᓄᖏᓐᓄᑦ ᐅᓄᕐᓂᖅᓴᐅᔪᓄᑦ.</a:t>
            </a:r>
            <a:r>
              <a:rPr b="0" lang="en-US" sz="2800" spc="-1" strike="noStrike">
                <a:solidFill>
                  <a:srgbClr val="000000"/>
                </a:solidFill>
                <a:latin typeface="Pigiarniq"/>
              </a:rPr>
              <a:t>”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*</a:t>
            </a: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ᓄᓇᕗᑦ ᒐᕙᒪᖓᑦ</a:t>
            </a: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Pigiarniq"/>
                <a:hlinkClick r:id="rId1"/>
              </a:rPr>
              <a:t>http://www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Pigiarniq"/>
                <a:hlinkClick r:id="rId2"/>
              </a:rPr>
              <a:t>gov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Pigiarniq"/>
                <a:hlinkClick r:id="rId3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Pigiarniq"/>
                <a:hlinkClick r:id="rId4"/>
              </a:rPr>
              <a:t>nu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Pigiarniq"/>
                <a:hlinkClick r:id="rId5"/>
              </a:rPr>
              <a:t>.ca/Nunavut/English/about/cg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Pigiarniq"/>
                <a:hlinkClick r:id="rId6"/>
              </a:rPr>
              <a:t>pdf</a:t>
            </a: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 - </a:t>
            </a: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ᕖᕝᕗᐊᕆ</a:t>
            </a: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 14, 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d-ID" sz="4000" spc="-1" strike="noStrike">
                <a:solidFill>
                  <a:srgbClr val="000000"/>
                </a:solidFill>
                <a:latin typeface="Pigiarniq"/>
              </a:rPr>
              <a:t>ᐊᖏᖃᑎᒌᖕᓂᒃᑯᖓᔪᑦ ᒐᕙᒪᐅᔪ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3929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Pigiarniq"/>
              </a:rPr>
              <a:t>ᐊᖏᖃᑎᒌᖕᓂᒃᑯᑦ ᒐᕙᒪᖃᕐᓂᖅ ᐊᐅᓚᓂᐅᕗᖅ ᐱᖃᓯᐅᔾᔨᓯᒪᓪᓗᓂ ᒪᓕᒐᖏᓐᓂᒃ</a:t>
            </a:r>
            <a:r>
              <a:rPr b="0" lang="en-US" sz="3200" spc="-1" strike="noStrike">
                <a:solidFill>
                  <a:srgbClr val="000000"/>
                </a:solidFill>
                <a:latin typeface="Pigiarniq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Pigiarniq"/>
              </a:rPr>
              <a:t>ᐱᖁᔭᓕᐅᖅᑎᕐᔪᐊᑦ ᓂᕈᐊᖅᑕᐅᕙᒃᑐᑦ ᒪᓕᒐᖏᓐᓂ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ᐱᖃᓯᐅᔾᔨᓪᓗᑎᒃ</a:t>
            </a:r>
            <a:r>
              <a:rPr b="0" lang="en-US" sz="3200" spc="-1" strike="noStrike">
                <a:solidFill>
                  <a:srgbClr val="000000"/>
                </a:solidFill>
                <a:latin typeface="Pigiarniq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Pigiarniq"/>
              </a:rPr>
              <a:t>ᓄᓇᖃᖅᑳᕐᓯᒪᔪᑦ ᐱᖅᑯᓯᖏᓐᓂᒃ.</a:t>
            </a:r>
            <a:r>
              <a:rPr b="0" lang="en-US" sz="3200" spc="-1" strike="noStrike">
                <a:solidFill>
                  <a:srgbClr val="000000"/>
                </a:solidFill>
                <a:latin typeface="Pigiarniq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0" lang="id-ID" sz="1000" spc="-1" strike="noStrike">
                <a:solidFill>
                  <a:srgbClr val="000000"/>
                </a:solidFill>
                <a:latin typeface="Pigiarniq"/>
              </a:rPr>
              <a:t>ᐊᖏᖃᑎᒌᖕᓂᒃᑯᑦ ᐊᐅᓚᓂᖃᖅᑐᑦ ᒐᕙᒪᐅᔪᑦ ᐅᓄᕐᓂᖅᓴᐅᔪᑦ ᐃᑲᔪᖅᑐᐃᓗᑎᒃ ᐊᓂᒍᖅᑎᑦᓯᔪᓐᓇᖅᐳᑦ ᐱᖁᔭᕐᒥ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igiarniq"/>
              </a:rPr>
              <a:t>*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Pigiarniq"/>
                <a:hlinkClick r:id="rId1"/>
              </a:rPr>
              <a:t>http://www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Pigiarniq"/>
                <a:hlinkClick r:id="rId2"/>
              </a:rPr>
              <a:t>gov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Pigiarniq"/>
                <a:hlinkClick r:id="rId3"/>
              </a:rPr>
              <a:t>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Pigiarniq"/>
                <a:hlinkClick r:id="rId4"/>
              </a:rPr>
              <a:t>nu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Pigiarniq"/>
                <a:hlinkClick r:id="rId5"/>
              </a:rPr>
              <a:t>.ca/Nunavut/English/about/cg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Pigiarniq"/>
                <a:hlinkClick r:id="rId6"/>
              </a:rPr>
              <a:t>pdf</a:t>
            </a:r>
            <a:r>
              <a:rPr b="0" lang="en-US" sz="1200" spc="-1" strike="noStrike">
                <a:solidFill>
                  <a:srgbClr val="000000"/>
                </a:solidFill>
                <a:latin typeface="Pigiarniq"/>
              </a:rPr>
              <a:t> - </a:t>
            </a: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ᕖᕝᕗᐊᕆ</a:t>
            </a:r>
            <a:r>
              <a:rPr b="0" lang="en-US" sz="1200" spc="-1" strike="noStrike">
                <a:solidFill>
                  <a:srgbClr val="000000"/>
                </a:solidFill>
                <a:latin typeface="Pigiarniq"/>
              </a:rPr>
              <a:t> 14, 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000000"/>
                </a:solidFill>
                <a:latin typeface="Pigiarniq"/>
              </a:rPr>
              <a:t>ᒐᕙᒪᒃᑯᑦ ᐋᖅᑭᒡᓯᒪᓂᖓ ᓄᓇᕗ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Pigiarniq"/>
              </a:rPr>
              <a:t>ᓄᓇᕗᑦ ᒐᕙᒪᒃᑯᖏᑦ ᓇᖕᒥᓂᖅ ᒐᕙᒪᕆᔭᐅᖏᑦᑐᖅ, ᑭᓇᒃᑯᓕᒫᓄᑦ ᒐᕙᒪᕆᔭᐅᔪ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igiarniq"/>
              </a:rPr>
              <a:t>(46%</a:t>
            </a: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 ᖏᑦ ᐃᓄᖏᑕ ᐃᖅᑲᓇᐃᔭᖅᑐᑦ ᒐᕙᒪᒃᑯᓐᓄᑦ</a:t>
            </a:r>
            <a:r>
              <a:rPr b="0" lang="en-US" sz="2800" spc="-1" strike="noStrike">
                <a:solidFill>
                  <a:srgbClr val="000000"/>
                </a:solidFill>
                <a:latin typeface="Pigiarniq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19-ᖑᔪᑦ ᒪᓕᒐᓕᐅᖅᑎᑦ ᑲᑎᒪᔨᖏᑦ ᓂᕈᐊᖅᑕᐅᖃᑦᑕᖅᑐᑦ ᓄᓇᕗ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ᒪᓕᒐᓕᐅᖅᑎᑦ ᑲᑎᒪᔨᖏᑦ ᓂᕈᐊᖃᑦᑕᖅᑐᑦ 8-ᓂᒃ ᒥᓂᔅᑕᐅᓂᐊᖅᑐᓂᒃ ᑲᑎᒪᔨᐅᖃᑎᒥᖕᓂᑦ ᐊᒻᒪ ᓯᕗᓕᖅᑎᐅᔪᖅ ᑎᒃᑯᐊᕐᓯᖃᑦᑕᖅᑐᑦ ᓇᓕᐊᖕᓄᑦ ᒥᓂᔅᑕᐅᓂᐊᕐᒪᖔ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ᑲᒥᓴᓇᖃᐅᕐᒥᔪᖅ ᐊᑐᓂ ᒥᓂᔅᑕᐅᑉ ᐱᓕᕆᕕᖁᑎᖏᓐ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ᐅᓄᑲᓪᓚᒃᑐᑦ ᐃᓐᓇᐅᔪᑦ ᐱᖁᔭᓕᐅᕐᕕᖓᓐᓂ ᐅᖃᐅᔾᔨᒋᐊᖅᑎᐅᔪᑦ ᒐᕙᒪᒃᑯᖏᓐᓂ ᓄᓇᕗᑦ ᐊᒃᑐᐊᓂᖃᖅᑐᓂᒃ ᐃᓄᐃᑦ ᖃᐅᔨᒪᓂᖏᓐᓄᑦ ᐱᓕᕆᐊᖃᖅᑎᓪᓗᒋ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000000"/>
                </a:solidFill>
                <a:latin typeface="Pigiarniq"/>
              </a:rPr>
              <a:t>ᐱᓕᕆᖃᑕᐅᓂᖏᑦ ᐃᓐᓇᐃᑦ ᒐᕙᒪᒃᑯᑦ ᐃᓗᐊ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d-ID" sz="2000" spc="-1" strike="noStrike">
                <a:solidFill>
                  <a:srgbClr val="000000"/>
                </a:solidFill>
                <a:latin typeface="Pigiarniq"/>
              </a:rPr>
              <a:t>ᐃᓐᓇᐃᑦ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ᑕᐃᒪᓐᖓᑦ ᐃᓅᓯᕆᔭᑦᑎᓐᓂ ᐅᐱᒋᔭᐅᖏᓐᓇᐅᔭᕐᒪᑕ, ᐱᔾᔪᑎᒋᓪᓗᒋᑦ </a:t>
            </a:r>
            <a:r>
              <a:rPr b="1" i="1" lang="id-ID" sz="2000" spc="-1" strike="noStrike">
                <a:solidFill>
                  <a:srgbClr val="000000"/>
                </a:solidFill>
                <a:latin typeface="Pigiarniq"/>
              </a:rPr>
              <a:t>ᖃᐅᔨᒪᓂᕆᔭᖏᑦ</a:t>
            </a: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 ᐊᒻᒪ </a:t>
            </a:r>
            <a:r>
              <a:rPr b="1" i="1" lang="id-ID" sz="2000" spc="-1" strike="noStrike">
                <a:solidFill>
                  <a:srgbClr val="000000"/>
                </a:solidFill>
                <a:latin typeface="Pigiarniq"/>
              </a:rPr>
              <a:t>ᐊᑐᕐᓯᒪᓂᕆᔭᖏᑦ</a:t>
            </a: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 ᑐᑭᒧᐊᒍᑕᐅᕙᓚᐅᕐᒪᑕ ᓄᖃᕐᖠᐅᔪᓄᑦ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ᐃᓐᓇᐃᑦ ᐅᖃᐅᔾᔨᒋᐊᖅᑎᐅᓪᓗᑎᒃ ᐱᖅᑯᓯᑐᖃᕐᒧᑦ ᐊᖏᕈᑎᐅᔪᓄᑦ ᒪᓕᒐᓕᐊᓄᑦ ᒐᕙᒪᒃᑯᑦ ᒪᓕᒃᓯᒪᑦᑎᐊᖁᓪᓗᒋᑦ ᑎᓕᔭᐅᓯᒪᔾᔪᑎᒋᔭᒥᖕᓂᒃ ᐱᖅᑯᓯᑐᖃᕐᓂᒃ ᐊᓐᓂᕆᔭᐅᔪᓂᒃ ᐃᓱᒪᖃᓯᐅᔾᔨᖃᑦᑕᖁᓪᓗᒋᑦ ᐃᓘᓐᓇᖏᓐᓂ ᐱᖁᔭᓕᐊᖏᓐ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igiarniq"/>
              </a:rPr>
              <a:t>“</a:t>
            </a: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ᐅᓪᓗᒥᐅᓕᖅᑐᑦ ᖃᓪᓗᓈᑦ ᐱᖁᔭᖏᑦ ᓴᓐᖏᔪᒃᑯᑦ ᐊᒃᑐᐃᓯᒪᖕᒪᑕ ᐃᓄᐃᑦ ᐃᓕᖅᑯᓯᖓᓐᓄᑦ ᐊᒻᒪ ᐃᓄᐃᑦ ᐃᓐᓇᖁᑎᖏᑦ ᐅᐱᒍᓱᓗᐊᖏᒻᒪᑕ ᓱᒃᑲᐃᓐᓂᖏᓐᓄᑦ.  ᐃᒃᐱᒍᓱᒃᑐᑦ ᐅᓄᖅᑐᑦ ᐃᓅᓯᕐᒧᑦ ᐊᑲᐅᓐᖏᓕᐅᕈᑎᐅᔪᑦ ᐅᓪᓗᒥᐅᔪᖅ ᐃᓄᐃᑦ ᐃᓅᓯᖏᓐᓄᑦ ᑲᒪᒋᔭᐅᔭᕆᐊᖃᕐᓂᖏᓐᓂᒃ ᓄᓇᓕᐅᔪᑦ ᐃᓗᐊᓂᒍᑦ ᓇᖕᒥᓂᖅ.</a:t>
            </a:r>
            <a:r>
              <a:rPr b="0" lang="en-US" sz="1800" spc="-1" strike="noStrike">
                <a:solidFill>
                  <a:srgbClr val="000000"/>
                </a:solidFill>
                <a:latin typeface="Pigiarniq"/>
              </a:rPr>
              <a:t>”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Pigiarniq"/>
                <a:hlinkClick r:id="rId1"/>
              </a:rPr>
              <a:t>http://www.nac.nu.ca/publication/vol1/introduction.html</a:t>
            </a:r>
            <a:r>
              <a:rPr b="0" lang="en-US" sz="1000" spc="-1" strike="noStrike">
                <a:solidFill>
                  <a:srgbClr val="000000"/>
                </a:solidFill>
                <a:latin typeface="Pigiarniq"/>
              </a:rPr>
              <a:t> - Feb. 22, 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Pigiarniq"/>
                <a:hlinkClick r:id="rId2"/>
              </a:rPr>
              <a:t>http://www.nac.nu.ca/publication/vol2/introduction.html</a:t>
            </a:r>
            <a:r>
              <a:rPr b="0" lang="en-US" sz="1000" spc="-1" strike="noStrike">
                <a:solidFill>
                  <a:srgbClr val="000000"/>
                </a:solidFill>
                <a:latin typeface="Pigiarniq"/>
              </a:rPr>
              <a:t> - Feb. 22, 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Pigiarniq"/>
              </a:rPr>
              <a:t>ᑐᑭᒧᐊᒍᑎᑦ ᒪᓕᒐᖏᑦ ᐃᓐᓇᐃ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Pigiarniq"/>
              </a:rPr>
              <a:t>ᐃᓅᖃᑎᒌᑦᓯᐊᕐᓂᖅ</a:t>
            </a:r>
            <a:r>
              <a:rPr b="1" lang="en-US" sz="2800" spc="-1" strike="noStrike">
                <a:solidFill>
                  <a:srgbClr val="000000"/>
                </a:solidFill>
                <a:latin typeface="Pigiarniq"/>
              </a:rPr>
              <a:t>: </a:t>
            </a: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ᐊᓯᒥᓂᒃ ᐅᐱᒍᓱᑦᓯᐊᕐᓂᖅ, ᐱᓕᕆᖃᑎᖃᕐᓂᖅ ᐊᒻᒪ ᐸᖅᑭᒡᓯᕐᓂᖅ ᐃᓅᖃᑎᒥᖕᓂ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Pigiarniq"/>
              </a:rPr>
              <a:t>ᑐᓐᖓᓇᕐᓂᖅ</a:t>
            </a:r>
            <a:r>
              <a:rPr b="1" lang="en-US" sz="2800" spc="-1" strike="noStrike">
                <a:solidFill>
                  <a:srgbClr val="000000"/>
                </a:solidFill>
                <a:latin typeface="Pigiarniq"/>
              </a:rPr>
              <a:t>: </a:t>
            </a: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ᐊᑐᕐᓗᑎᒃ ᐱᐅᔪᒥᒃ ᒪᑐᐃᖓᑦᓯᐊᕐᓗᓂ, ᑐᓐᖓᓇᕐᓗᓂ ᐊᒻᒪ ᐱᖃᓯᐅᔾᔨᓯᒪᓗ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Pigiarniq"/>
              </a:rPr>
              <a:t>ᐱᔨᑦᓯᕐᓂᖅ</a:t>
            </a:r>
            <a:r>
              <a:rPr b="1" lang="en-US" sz="2800" spc="-1" strike="noStrike">
                <a:solidFill>
                  <a:srgbClr val="000000"/>
                </a:solidFill>
                <a:latin typeface="Pigiarniq"/>
              </a:rPr>
              <a:t>:</a:t>
            </a: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ᐱᔨᑦᓯᕐᓂᖅ ᐊᒻᒪ ᐃᓚᒥᓂᒃ ᓂᕿᖃᖅᑎᑦᓯᓂᖅ ᐊᒻᒪ/ᐅᕝᕙᓘᓐᓃᑦ ᓄᓇᖅᑲᑎᒥᓂ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Pigiarniq"/>
              </a:rPr>
              <a:t>ᐋᔩᖃᑎᒌᖕᓂᖅ</a:t>
            </a:r>
            <a:r>
              <a:rPr b="1" lang="en-US" sz="2800" spc="-1" strike="noStrike">
                <a:solidFill>
                  <a:srgbClr val="000000"/>
                </a:solidFill>
                <a:latin typeface="Pigiarniq"/>
              </a:rPr>
              <a:t>: </a:t>
            </a: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ᐃᓱᒪᓕᐅᕐᓂᖅ ᐅᖃᖃᑎᒌᖕᓂᒃᑯᑦ ᐊᒻᒪ ᐋᔩᖃᑎᒌᖕᓂᒃᑯ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Pigiarniq"/>
                <a:hlinkClick r:id="rId1"/>
              </a:rPr>
              <a:t>http://www.gov.nu.ca/Nunavut/pinasuaqtavut/engcover.pdf</a:t>
            </a:r>
            <a:r>
              <a:rPr b="0" lang="en-US" sz="1000" spc="-1" strike="noStrike">
                <a:solidFill>
                  <a:srgbClr val="000000"/>
                </a:solidFill>
                <a:latin typeface="Pigiarniq"/>
              </a:rPr>
              <a:t> - </a:t>
            </a:r>
            <a:r>
              <a:rPr b="0" lang="id-ID" sz="1000" spc="-1" strike="noStrike">
                <a:solidFill>
                  <a:srgbClr val="000000"/>
                </a:solidFill>
                <a:latin typeface="Pigiarniq"/>
              </a:rPr>
              <a:t>ᕖᕝᕗᐊᕆ</a:t>
            </a:r>
            <a:r>
              <a:rPr b="0" lang="en-US" sz="1000" spc="-1" strike="noStrike">
                <a:solidFill>
                  <a:srgbClr val="000000"/>
                </a:solidFill>
                <a:latin typeface="Pigiarniq"/>
              </a:rPr>
              <a:t> 20,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Pigiarniq"/>
              </a:rPr>
              <a:t>ᐃᓕᖅᑯᓯᓕᕆᔨᒃᑯᑦ, ᐅᖃᐅᓯᓕᕆᔨᒃᑯᑦ, ᐃᓐᓇᑐᖃᓕᕆᔨᒃᑯᑦ ᐊᒻᒪ ᒪᒃᑯᒃᑐᓕᕆᔨᒃᑯ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ᓱᒪᒐᔪᖕᓂ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1" i="1" lang="id-ID" sz="2400" spc="-1" strike="noStrike">
                <a:solidFill>
                  <a:srgbClr val="000000"/>
                </a:solidFill>
                <a:latin typeface="Pigiarniq"/>
              </a:rPr>
              <a:t>ᐱᓕᕆᕕᖓᑦ</a:t>
            </a:r>
            <a:r>
              <a:rPr b="0" lang="en-US" sz="24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ᓄᓇᕗᑦ ᒐᕙᒪᒃᑯᖏᑕ ᓴᓇᔭᐅᓚᐅᕐᓯᒪᔪᖅ ᓴᖅᑭᑦᑎᖁᓪᓗᒋᑦ ᓂᕈᐊᖅᑕᐅᓯᒪᔪᑦ ᐱᐅᓯᖓᑎᒍᑦ ᐊᒻᒪ ᐸᐃᑉᐹᓕᕆᔾᔪᑎᖏᑦ ᐊᒃᑐᐊᓂᖅᓴᐅᓗᑎᒃ ᐃᓄᐃᑦ ᐃᓕᖅᑯᓯᖏᓐᓄᑦ</a:t>
            </a:r>
            <a:r>
              <a:rPr b="0" lang="en-US" sz="2400" spc="-1" strike="noStrike">
                <a:solidFill>
                  <a:srgbClr val="000000"/>
                </a:solidFill>
                <a:latin typeface="Pigiarniq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Pigiarniq"/>
              </a:rPr>
              <a:t>*</a:t>
            </a:r>
            <a:r>
              <a:rPr b="0" i="1" lang="id-ID" sz="1200" spc="-1" strike="noStrike">
                <a:solidFill>
                  <a:srgbClr val="000000"/>
                </a:solidFill>
                <a:latin typeface="Pigiarniq"/>
              </a:rPr>
              <a:t> ᑲᓇᑕ </a:t>
            </a: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ᖃᓄᐃᓐᓂᕆᔭᖓ ᒐᕙᒪᐅᔪᑦ 2003 ᐋᖅᑭᒡᓱᖅᑕᐅᒃᑲᓐᓂᕐᓂᖓ ᓄᓇᖃᖅᑳᕐᓯᒪᔪᑦ ᒐᕙᒪᖏᑦ ᑎᑎᕋᖅᑕᐅᔪᑦ ᒪᐃᒃ ᒧᕕᒧᑦ</a:t>
            </a:r>
            <a:r>
              <a:rPr b="0" lang="en-US" sz="1200" spc="-1" strike="noStrike">
                <a:solidFill>
                  <a:srgbClr val="000000"/>
                </a:solidFill>
                <a:latin typeface="Pigiarniq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igiarniq"/>
              </a:rPr>
              <a:t>(McGill-Queen's University Press, 2005)22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2:20:25Z</dcterms:created>
  <dc:creator>simon jr hall</dc:creator>
  <dc:description/>
  <dc:language>en-US</dc:language>
  <cp:lastModifiedBy> </cp:lastModifiedBy>
  <dcterms:modified xsi:type="dcterms:W3CDTF">2007-03-19T23:26:17Z</dcterms:modified>
  <cp:revision>69</cp:revision>
  <dc:subject/>
  <dc:title>     Consensus government</dc:title>
</cp:coreProperties>
</file>