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BF906-1B7B-4929-9550-9014C0136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8E54-E07C-4990-9DC0-2D2D1B5CA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91A45-BF67-46BC-9568-A1C0FB189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4674E-114F-4692-9C25-D47B4BB1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A20B-1371-4E20-90C2-3896C5B8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4D80A-C2A1-497F-B48E-3B604FAB2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DF925-C3B0-4B80-A152-834F50BD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DF8A7-5614-4F09-A90C-49D28073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50DD-64F1-4C69-8BCA-AF902A7E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6DAA-A1B6-4353-BCBD-025273CD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AD37-557D-403E-B266-44D22CAD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CF97-AB53-4090-A6F5-BF858FCFD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D0BA-1E1B-472F-A715-137943704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gov.nu.ca/finance/bp0506/env05.pdf" TargetMode="External"/><Relationship Id="rId2" Type="http://schemas.openxmlformats.org/officeDocument/2006/relationships/hyperlink" Target="http://www.gov.nu.ca/finance/bp0506/env05.pdf" TargetMode="External"/><Relationship Id="rId3" Type="http://schemas.openxmlformats.org/officeDocument/2006/relationships/hyperlink" Target="http://www.gov.nu.ca/finance/bp0506/env05.pdf" TargetMode="External"/><Relationship Id="rId4" Type="http://schemas.openxmlformats.org/officeDocument/2006/relationships/hyperlink" Target="http://www.gov.nu.ca/finance/bp0506/env05.pdf" TargetMode="External"/><Relationship Id="rId5" Type="http://schemas.openxmlformats.org/officeDocument/2006/relationships/hyperlink" Target="http://www.gov.nu.ca/finance/bp0506/env05.pdf" TargetMode="External"/><Relationship Id="rId6" Type="http://schemas.openxmlformats.org/officeDocument/2006/relationships/hyperlink" Target="http://www.gov.nu.ca/finance/bp0506/env05.pdf" TargetMode="External"/><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tunngavik.com/publications/environment/climate-change-inuit-perspective-en.pdf" TargetMode="External"/><Relationship Id="rId2" Type="http://schemas.openxmlformats.org/officeDocument/2006/relationships/hyperlink" Target="http://www.tunngavik.com/publications/environment/climate-change-inuit-perspective-en.pdf" TargetMode="External"/><Relationship Id="rId3" Type="http://schemas.openxmlformats.org/officeDocument/2006/relationships/hyperlink" Target="http://www.tunngavik.com/publications/environment/climate-change-inuit-perspective-en.pdf" TargetMode="External"/><Relationship Id="rId4" Type="http://schemas.openxmlformats.org/officeDocument/2006/relationships/hyperlink" Target="http://www.tunngavik.com/publications/environment/climate-change-inuit-perspective-en.pdf" TargetMode="External"/><Relationship Id="rId5" Type="http://schemas.openxmlformats.org/officeDocument/2006/relationships/hyperlink" Target="http://www.tunngavik.com/publications/environment/climate-change-inuit-perspective-en.pdf" TargetMode="External"/><Relationship Id="rId6" Type="http://schemas.openxmlformats.org/officeDocument/2006/relationships/hyperlink" Target="http://www.tunngavik.com/publications/environment/climate-change-inuit-perspective-en.pdf" TargetMode="External"/><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Pigiarniq"/>
              </a:rPr>
              <a:t>ᐊᕙᑎᒥᒃ ᐸᖅᑭᒡᓯᕐᓂ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ᐱᓕᕆᖃᑎᒌᖕᓂᖓᑦ</a:t>
            </a:r>
            <a:r>
              <a:rPr b="0" lang="en-US" sz="4000" spc="-1" strike="noStrike">
                <a:solidFill>
                  <a:srgbClr val="000000"/>
                </a:solidFill>
                <a:latin typeface="Pigiarniq"/>
              </a:rPr>
              <a:t> </a:t>
            </a:r>
            <a:br>
              <a:rPr sz="4000"/>
            </a:br>
            <a:r>
              <a:rPr b="0" lang="id-ID" sz="4000" spc="-1" strike="noStrike">
                <a:solidFill>
                  <a:srgbClr val="000000"/>
                </a:solidFill>
                <a:latin typeface="Pigiarniq"/>
              </a:rPr>
              <a:t>ᐃᓄᐃᑦ ᖃᐅᔨᒪᔭᑐᖃᖏᑦ</a:t>
            </a:r>
            <a:br>
              <a:rPr sz="4000"/>
            </a:br>
            <a:r>
              <a:rPr b="0" lang="id-ID" sz="4000" spc="-1" strike="noStrike">
                <a:solidFill>
                  <a:srgbClr val="000000"/>
                </a:solidFill>
                <a:latin typeface="Pigiarniq"/>
              </a:rPr>
              <a:t>ᐊᒻᒪ ᖃᐅᔨᓴᖅᑎᒻᒪᕆᑦ ᖃᐅᔨᒪᓂᖏᑦ</a:t>
            </a:r>
            <a:r>
              <a:rPr b="0" lang="en-US" sz="4000" spc="-1" strike="noStrike">
                <a:solidFill>
                  <a:srgbClr val="000000"/>
                </a:solidFill>
                <a:latin typeface="Pigiarniq"/>
              </a:rPr>
              <a:t>:</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2057400"/>
            <a:ext cx="8229600" cy="49528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ᐃᓄᐃᑦ ᖃᐅᔨᒪᔭᑐᖃᖏᑦ ᐃᓕᖃᓯᐅᔾᔭᐅᔪᓐᓇᖏᑦᑐᑦ ᐅᕝᕙᓘᓐᓃᖅ ᐱᖃᓯᐅᑎᔭᐅᔪᓐᓇᖏᑦᑐᑦ ᖃᐅᔨᓴᖅᑎᒻᒪᕆᑦ ᖃᐅᔨᒪᓂᖏᓐᓄᑦ ᐱᔾᔪᑎᒋᓪᓗᒍ ᐃᓕᖅᑯᓯᖏᑕ ᐱᖅᑯᓯᖏᑦ ᓯᐊᒻᒪᒃᓯᒪᓂᖅᓴᐅᖕᒪᑕ ᐱᖅᑯᓯᑐᖃᒃᑯᑦ ᖃᐅᔨᒪᓂᕆᔭᐅᔪᒥᑦ ᖃᓄᑐᐃᓐᓇᖅ, ᓯᓚᒧᑦ ᐊᑕᓪᓗᑎᒃ, ᐊᔾᔨᒋᔭᐅᓇᑎᒃ ᖃᐅᔨᓴᖅᑎᒻᒪᕆᐅᔪᑦ ᖃᐅᔨᒪᓂᖏᓐᓄᑦ.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ᑕᒪᕐᒥᒃ ᐃᒡᓗᒌᓕᖅᑎᑕᐅᔭᕆᐊᖃᕐᒪᑕ ᐊᓯᖏᑦᑕᐅᖅ ᐃᓄᐃᑦ ᐅᔾᔨᕆᓯᒪᔭᖏᑦ ᐊᑐᖅᑕᐅᓗᑎᒃ ᖃᐅᔨᓴᖅᑎᒻᒪᕆᐅᔪᑦ ᐆᒃᑐᕋᐅᑎᓕᐊᖏᓐᓄᑦ, ᐊᒻᒪ ᖃᐅᔨᒪᓂᕐᒥᖕᓂᒃ ᑕᐅᕐᓰᖃᑎᒌᒡᓗᑎᒃ ᖃᐅᔨᒪᓂᖏᑦ ᑕᒪᒃᑮᖕᓄᑦ ᐅᖃᑕᐅᔭᕆᐊᖃᖅᑐᑦ</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ᐱᓗᐊᖅᑐᒥᒃ ᐱᔾᔪᑎᒋᓪᓗᒍ ᑐᑭᒧᐊᒃᑎᑕᐅᑦᓯᐊᓐᐃᓗᐊᕐᒪᑕ ᖃᕆᑕᐅᔭᒃᑯᑦ ᑐᓴᒐᒃᓴᐅᔪᑦ ᓄᓇᕗᑦ ᐊᕙᑎᖓᓄᑦ, ᐃᓄᐃᑦ ᐅᔾᔨᕆᔭᖏᑦ ᐊᑑᑎᖃᕐᒪᑕ ᑐᓴᒐᒃᓴᐅᔪᑦ ᓴᓇᓂᐊᖅᑎᓪᓗᖏᑦ ᑐᓴᐅᒪᑦᑎᐊᕐᓗᑎᒃ ᐊᒻᒪ ᑐᑭᒧᐊᒍᑎᓕᐅᕐᓗᑎᒃ ᖃᐅᔨᓴᖅᑎᒻᒪᕆᑦ ᖃᐅᔨᓴᕈᑎᒃᓴᖏᓐᓄᑦ.</a:t>
            </a:r>
            <a:endParaRPr b="0" lang="en-US" sz="1600" spc="-1" strike="noStrike">
              <a:solidFill>
                <a:srgbClr val="000000"/>
              </a:solidFill>
              <a:latin typeface="Arial"/>
            </a:endParaRPr>
          </a:p>
          <a:p>
            <a:pPr marL="343080" indent="-343080">
              <a:lnSpc>
                <a:spcPct val="10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ᐃᓕᖅᑯᓯᑐᖃᕆᔭᐅᖏᑦᑑᒐᓗᐊᖅ ᐃᓄᖕᓄᑦ ᓯᕗᓂᒃᓴᒧᑦ ᓇᓕᖅᑯᑦᑕᐃᓂᖅ, ᖃᐅᔨᓴᖅᑎᒻᒪᕆᐅᔪᑦ ᖃᐅᔨᒪᓂᖏᑦ ᐊᑐᕐᓗᒋᑦ ᐃᑲᔪᕐᓯᔪᓐᓇᖅᑐᑦ ᖃᓄᐃᑦᑐᓂᒃ ᓂᕆᐅᒍᓐᓇᕐᒪᖔᑕ ᐊᓯᔾᔨᕈᑕᐅᓂᐊᖅᑐᓂᒃ ᐊᒻᒪ ᓱᒃᑲᓗᐊᖅᑐᒃᑯᑦ ᓵᑦᑎᓐᓄᐊᖁᓇᒍ.</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ᐱᔭᐅᔪᑦ</a:t>
            </a:r>
            <a:r>
              <a:rPr b="0" lang="en-US" sz="1200" spc="-1" strike="noStrike">
                <a:solidFill>
                  <a:srgbClr val="000000"/>
                </a:solidFill>
                <a:latin typeface="Pigiarniq"/>
              </a:rPr>
              <a:t>:</a:t>
            </a:r>
            <a:r>
              <a:rPr b="0" lang="en-US" sz="12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ᓱᖏᐅᓴᓂᕐᒧᑦ ᓯᕗᓪᓕᐅᔾᔭᑦ </a:t>
            </a:r>
            <a:r>
              <a:rPr b="0" lang="en-US" sz="4400" spc="-1" strike="noStrike">
                <a:solidFill>
                  <a:srgbClr val="000000"/>
                </a:solidFill>
                <a:latin typeface="Pigiarniq"/>
              </a:rPr>
              <a:t>:</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a:t>
            </a:r>
            <a:r>
              <a:rPr b="0" lang="id-ID" sz="3200" spc="-1" strike="noStrike">
                <a:solidFill>
                  <a:srgbClr val="000000"/>
                </a:solidFill>
                <a:latin typeface="Pigiarniq"/>
              </a:rPr>
              <a:t>ᐃᓄᐃᑦ, ᒐᕙᒪᐃᑦ, ᓯᕗᓕᖅᑎᑦ ᐊᒻᒪ ᖃᐅᔨᓴᖅᑎᒻᒪᕆᐅᔪᑦ ᐃᖅᑲᓇᐃᔭᖃᑎᒌᒋᐊᖃᓕᖅᑐᑦ ᑐᑭᖃᓪᓚᕆᒃᑐᒥᒃ ᓯᕗᒧᐊᒃᑎᑦᓯᓂᐊᕈᑎᒃ ᑕᒪᑐᒪ ᒥᒃᓵᓄᑦ ᐱᔾᔪᑕᐅᔫᑉ</a:t>
            </a:r>
            <a:r>
              <a:rPr b="0" lang="en-US" sz="3200" spc="-1" strike="noStrike">
                <a:solidFill>
                  <a:srgbClr val="000000"/>
                </a:solidFill>
                <a:latin typeface="Pigiarniq"/>
              </a:rPr>
              <a:t>.”  </a:t>
            </a:r>
            <a:endParaRPr b="0" lang="en-US" sz="3200" spc="-1" strike="noStrike">
              <a:solidFill>
                <a:srgbClr val="000000"/>
              </a:solidFill>
              <a:latin typeface="Arial"/>
            </a:endParaRPr>
          </a:p>
        </p:txBody>
      </p:sp>
      <p:sp>
        <p:nvSpPr>
          <p:cNvPr id="67" name=""/>
          <p:cNvSpPr/>
          <p:nvPr/>
        </p:nvSpPr>
        <p:spPr>
          <a:xfrm>
            <a:off x="609480" y="556272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ᐱᔭᐅᔪᑦ</a:t>
            </a:r>
            <a:r>
              <a:rPr b="0" lang="en-US" sz="18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igiarniq"/>
              </a:rPr>
              <a:t>“</a:t>
            </a:r>
            <a:r>
              <a:rPr b="0" lang="id-ID" sz="1800" spc="-1" strike="noStrike">
                <a:solidFill>
                  <a:srgbClr val="000000"/>
                </a:solidFill>
                <a:latin typeface="Pigiarniq"/>
              </a:rPr>
              <a:t>ᐃᓱᒪᔪᖓᓕ ᓄᓇᕐᔪᐊᕗᑦ ᐊᓯᔾᔨᖅᐸᓪᓕᐊᖏᓐᓇᐅᔭᕐᓂᖓᓂᒃ ᐊᒻᒪ ᐊᒃᓱᒻᒪᕆᐅᔪᖅ ᐊᔭᐅᖅᑐᐃᔾᔪᑕᐅᓕᕐᓂᐊᖅᑐᖅ ᐃᓄᖏᑦ ᓄᓇᕐᔪᐊᑉ ᑕᐃᒪᓐᖓᑦ ᓱᖏᐅᑎᓇᓱᐊᖃᑦᑕᕐᓗᑎᒃ.</a:t>
            </a:r>
            <a:r>
              <a:rPr b="0" lang="en-US" sz="1800" spc="-1" strike="noStrike">
                <a:solidFill>
                  <a:srgbClr val="000000"/>
                </a:solidFill>
                <a:latin typeface="Pigiarniq"/>
              </a:rPr>
              <a:t> </a:t>
            </a:r>
            <a:br>
              <a:rPr sz="1800"/>
            </a:br>
            <a:br>
              <a:rPr sz="1800"/>
            </a:br>
            <a:r>
              <a:rPr b="0" lang="en-US" sz="1800" spc="-1" strike="noStrike">
                <a:solidFill>
                  <a:srgbClr val="000000"/>
                </a:solidFill>
                <a:latin typeface="Pigiarniq"/>
              </a:rPr>
              <a:t>… </a:t>
            </a:r>
            <a:r>
              <a:rPr b="0" lang="id-ID" sz="1800" spc="-1" strike="noStrike">
                <a:solidFill>
                  <a:srgbClr val="000000"/>
                </a:solidFill>
                <a:latin typeface="Pigiarniq"/>
              </a:rPr>
              <a:t>ᑕᒫᓂᓕ...ᐃᓄᐃ ᐊᑐᓕᖅᑐᑦ ᐃᓄᐃᑦ ᖃᐅᔨᒪᔭᑐᖃᖏᓐᓂᒃ ᓱᖏᐅᓴᓪᓗᑎᒃ, ᑭᓯᐊᓂᓕ ᐊᑯᓂᐅᓂᖅᓴᐅᓂᐊᖅᑐᖅ.</a:t>
            </a:r>
            <a:r>
              <a:rPr b="0" lang="en-US" sz="1800" spc="-1" strike="noStrike">
                <a:solidFill>
                  <a:srgbClr val="000000"/>
                </a:solidFill>
                <a:latin typeface="Pigiarniq"/>
              </a:rPr>
              <a:t> </a:t>
            </a:r>
            <a:br>
              <a:rPr sz="1800"/>
            </a:br>
            <a:br>
              <a:rPr sz="1800"/>
            </a:br>
            <a:r>
              <a:rPr b="0" lang="id-ID" sz="1800" spc="-1" strike="noStrike">
                <a:solidFill>
                  <a:srgbClr val="000000"/>
                </a:solidFill>
                <a:latin typeface="Pigiarniq"/>
              </a:rPr>
              <a:t>ᑭᓯᐊᓂᓕ ᑕᑯᔪᖓ ᓱᖏᐅᑎᔪᓂᒃ ᐱᔪᓐᓇᕐᓂᖏᑦ ᒪᓕᒃᓗᒋᑦ ᐊᒻᒪ ᑭᓱᑐᓐᐃᓇᕐᓂᒃ ᐊᑐᕐᓗᑎᒃ ᐱᐅᓂᖅᐹᖑᔪᓐᓇᖅᑐᒃᑯᑦ</a:t>
            </a:r>
            <a:r>
              <a:rPr b="0" lang="en-US" sz="1800" spc="-1" strike="noStrike">
                <a:solidFill>
                  <a:srgbClr val="000000"/>
                </a:solidFill>
                <a:latin typeface="Pigiarniq"/>
              </a:rPr>
              <a:t>.”</a:t>
            </a:r>
            <a:br>
              <a:rPr sz="1800"/>
            </a:br>
            <a:endParaRPr b="0" lang="en-US" sz="1800" spc="-1" strike="noStrike">
              <a:solidFill>
                <a:srgbClr val="000000"/>
              </a:solidFill>
              <a:latin typeface="Arial"/>
            </a:endParaRPr>
          </a:p>
        </p:txBody>
      </p:sp>
      <p:sp>
        <p:nvSpPr>
          <p:cNvPr id="69" name="PlaceHolder 2"/>
          <p:cNvSpPr>
            <a:spLocks noGrp="1"/>
          </p:cNvSpPr>
          <p:nvPr>
            <p:ph type="subTitle"/>
          </p:nvPr>
        </p:nvSpPr>
        <p:spPr>
          <a:xfrm>
            <a:off x="1447920" y="441972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ᒥᔅᑕ ᐋᓐᑐᕈ ᑕᓐᕗᐊᑦ,</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ᖃᐅᔨᓴᖅᑎ, ᓄᓇᕗᒥ ᖃᐅᔨᓴᐃᕕᖕᒥ</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ᓯᑎᐱᕆ</a:t>
            </a:r>
            <a:r>
              <a:rPr b="1" lang="en-US" sz="1400" spc="-1" strike="noStrike">
                <a:solidFill>
                  <a:srgbClr val="000000"/>
                </a:solidFill>
                <a:latin typeface="Pigiarniq"/>
              </a:rPr>
              <a:t>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a:t>
            </a:r>
            <a:r>
              <a:rPr b="0" lang="id-ID" sz="2400" spc="-1" strike="noStrike">
                <a:solidFill>
                  <a:srgbClr val="000000"/>
                </a:solidFill>
                <a:latin typeface="Pigiarniq"/>
              </a:rPr>
              <a:t>ᐱᑕᖃᖅᐸᑦ, ᓇᓗᓇᐃᕐᓯᔾᔪᑎᓂᒃ ᐃᓗᐊᓂ (ᐃᓄᐃᑦ ᖃᐅᔨᒪᓂᖏᑕ ᐃᖏᕐᕋᓂᖓᓂ) ᐊᒃᑐᐊᓂᖃᖅᑐᓂᒃ ᐊᓯᔾᔨᖅᐸᓪᓕᐊᓂᖓᓄᑦ ᓯᓚᐅᑉ ᐊᑑᑎᖃᕋᔭᖅᑐᕕᓂᖅ</a:t>
            </a:r>
            <a:r>
              <a:rPr b="0" lang="en-US" sz="2400" spc="-1" strike="noStrike">
                <a:solidFill>
                  <a:srgbClr val="000000"/>
                </a:solidFill>
                <a:latin typeface="Pigiarniq"/>
              </a:rPr>
              <a:t> … </a:t>
            </a:r>
            <a:br>
              <a:rPr sz="2400"/>
            </a:br>
            <a:br>
              <a:rPr sz="2400"/>
            </a:br>
            <a:r>
              <a:rPr b="0" lang="en-US" sz="2400" spc="-1" strike="noStrike">
                <a:solidFill>
                  <a:srgbClr val="000000"/>
                </a:solidFill>
                <a:latin typeface="Pigiarniq"/>
              </a:rPr>
              <a:t> </a:t>
            </a:r>
            <a:r>
              <a:rPr b="0" lang="id-ID" sz="2400" spc="-1" strike="noStrike">
                <a:solidFill>
                  <a:srgbClr val="000000"/>
                </a:solidFill>
                <a:latin typeface="Pigiarniq"/>
              </a:rPr>
              <a:t>(ᑖᓐᓇ) ᐃᓕᓐᓂᐊᖅᑎᑦᓯᔪᓐᓇᖅᑐᖅ ᐅᕙᑦᑎᓐᓂᒃ ᖃᓄᖅ ᓄᓇᓕᐅᔪᖅ ᓱᖏᐅᑎᔪᓐᓇᕐᒪᖔᑦ ᓯᕗᓂᒃᓴᒧᑦ ᐊᒻᒪ ᐊᑐᓕᕐᓗᑎᒃ ᐊᓯᔾᔨᖅᐸᓪᐊᓕᔪᒥᒃ ᓯᓚᒥᒃ ᑕᐃᒪᓐᓇ ᑭᓯᐊᓂ  ᐋᖅᑭᒋᐊᕈᑎᐅᔪᓐᓇᕋᔭᕐᒪᑦ.</a:t>
            </a:r>
            <a:r>
              <a:rPr b="0" lang="en-US" sz="2400" spc="-1" strike="noStrike">
                <a:solidFill>
                  <a:srgbClr val="000000"/>
                </a:solidFill>
                <a:latin typeface="Pigiarniq"/>
              </a:rPr>
              <a:t>”</a:t>
            </a:r>
            <a:br>
              <a:rPr sz="2400"/>
            </a:br>
            <a:endParaRPr b="0" lang="en-US" sz="2400" spc="-1" strike="noStrike">
              <a:solidFill>
                <a:srgbClr val="000000"/>
              </a:solidFill>
              <a:latin typeface="Arial"/>
            </a:endParaRPr>
          </a:p>
        </p:txBody>
      </p:sp>
      <p:sp>
        <p:nvSpPr>
          <p:cNvPr id="7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ᓯᓚᑦᑐᓴᕐᕕᒡᔪᐊᒥ ᐃᓕᓴᐃᔨ ᒍᕌᒻ ᑕᐳᐊᓐ</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ᐊᑲᐃᑎᐊ ᓯᓚᑦᑐᓴᕐᕕᒡᔪᐊᖅ</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ᑕᑯᔭᕆᐅᕆᐊᖅᑐᖅᑐᑦ ᑲᓇᑕᒥ ᐅᒥᐊᖅᑐᕐᓂᖅ, ᐃᖃᓗᖕᓂᑦ</a:t>
            </a:r>
            <a:r>
              <a:rPr b="1" lang="en-US" sz="1400" spc="-1" strike="noStrike">
                <a:solidFill>
                  <a:srgbClr val="000000"/>
                </a:solidFill>
                <a:latin typeface="Pigiarniq"/>
              </a:rPr>
              <a:t> – </a:t>
            </a:r>
            <a:r>
              <a:rPr b="1" lang="id-ID" sz="1400" spc="-1" strike="noStrike">
                <a:solidFill>
                  <a:srgbClr val="000000"/>
                </a:solidFill>
                <a:latin typeface="Pigiarniq"/>
              </a:rPr>
              <a:t>ᑭᓐᖓᕐᓄᑦ</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igiarniq"/>
              </a:rPr>
              <a:t>ᓯᑎᐱᕆ</a:t>
            </a:r>
            <a:r>
              <a:rPr b="1" lang="en-US" sz="1400" spc="-1" strike="noStrike">
                <a:solidFill>
                  <a:srgbClr val="000000"/>
                </a:solidFill>
                <a:latin typeface="Pigiarniq"/>
              </a:rPr>
              <a:t> 2006</a:t>
            </a:r>
            <a:endParaRPr b="0" lang="en-US" sz="1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89548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a:t>
            </a:r>
            <a:r>
              <a:rPr b="0" lang="id-ID" sz="1800" spc="-1" strike="noStrike">
                <a:solidFill>
                  <a:srgbClr val="000000"/>
                </a:solidFill>
                <a:latin typeface="Pigiarniq"/>
              </a:rPr>
              <a:t>ᐱᓕᕆᕕᖓᑦ ᐊᕙᑎᓕᕆᔨᒃᑯᑦ ᑲᔪᓯᔪᒃᑯᑦ ᐱᓕᕆᓂᖓᑦ ᐅᓄᑲᓪᓚᒃᑐᓂᒃ ᐱᖃᓯᐅᔾᔨᓯᒪᓕᖅᐳᑦ </a:t>
            </a:r>
            <a:r>
              <a:rPr b="1" i="1" lang="id-ID" sz="1800" spc="-1" strike="noStrike">
                <a:solidFill>
                  <a:srgbClr val="000000"/>
                </a:solidFill>
                <a:latin typeface="Pigiarniq"/>
              </a:rPr>
              <a:t>ᐃᓄᐃᑦ ᖃᐅᔨᒪᔭᖏᓐᓂᒃ</a:t>
            </a:r>
            <a:r>
              <a:rPr b="0" lang="id-ID" sz="1800" spc="-1" strike="noStrike">
                <a:solidFill>
                  <a:srgbClr val="000000"/>
                </a:solidFill>
                <a:latin typeface="Pigiarniq"/>
              </a:rPr>
              <a:t> ᐱᓕᕆᐊᖏᑕ ᐃᓗᐊᓄᑦ, ᐱᔨᑦᓯᕈᑎᒋᔭᖏᑕ ᐊᒻᒪ ᖃᐅᑕᒫᕐᓯᐅᑎᖏᓐᓄᑦ ᐊᐅᓚᔾᔪᑎᖏᓐᓄᑦ.  </a:t>
            </a:r>
            <a:r>
              <a:rPr b="1" i="1" lang="id-ID" sz="1800" spc="-1" strike="noStrike">
                <a:solidFill>
                  <a:srgbClr val="000000"/>
                </a:solidFill>
                <a:latin typeface="Pigiarniq"/>
              </a:rPr>
              <a:t>ᐃᓄᐃᑦ ᖃᐅᔨᒪᔭᖏ</a:t>
            </a:r>
            <a:r>
              <a:rPr b="0" lang="id-ID" sz="1800" spc="-1" strike="noStrike">
                <a:solidFill>
                  <a:srgbClr val="000000"/>
                </a:solidFill>
                <a:latin typeface="Pigiarniq"/>
              </a:rPr>
              <a:t> ᐊᑐᖅᑕᐅᓪᓗᑎᒃ ᒪᑐᐃᖓᔾᔪᑕᐅᕗᑦ, ᑭᐅᓯᔾᔪᑕᐅᕙᒃᑭᕗᑦ ᐊᒻᒪ ᓵᑕᒃᑕᐅᔾᔪᑕᐅᓪᓗᑎᒃ, ᐊᒻᒪ ᐱᖃᓯᐅᑎᔭᐅᓯᒪᓪᓗᑎᒃ ᖃᐅᑕᒫᑦ ᐱᓕᕆᐊᒃᓴᖏᓐᓄᑦ ᐱᓕᕆᕕᐅᑉ.  ᐱᓕᕆᐊᖃᕋᓱᐊᖅᐳᒍᑦ ᐊᐅᓚᓂᖃᕐᓗᑕ ᐊᓯᔾᔨᕈᓐᓇᖅᑐᒥᒃ, ᐃᓕᖅᑯᓯᕐᒥᒃ ᐃᒃᐱᒍᓱᑦᓯᐊᖅᑐᒥᒃ ᐃᓗᐊᓂ ᐊᒻᒪ ᐱᔨᑦᓯᕈᑎᖏᓐᓂ ᐱᓕᕆᐊᑦ ᐊᒻᒪ ᐱᔨᑦᓯᕈᑎᐅᔪᑦ.</a:t>
            </a:r>
            <a:br>
              <a:rPr sz="1800"/>
            </a:br>
            <a:r>
              <a:rPr b="0" lang="id-ID" sz="1800" spc="-1" strike="noStrike">
                <a:solidFill>
                  <a:srgbClr val="000000"/>
                </a:solidFill>
                <a:latin typeface="Pigiarniq"/>
              </a:rPr>
              <a:t>ᑐᕌᒐᒃᓴᕗᑦ ᐊᖏᖅᑎᑦᓯᓯᒪᔪᑦ ᐅᕙᑦᑎᓐᓂᒃ </a:t>
            </a:r>
            <a:r>
              <a:rPr b="1" i="1" lang="id-ID" sz="1800" spc="-1" strike="noStrike">
                <a:solidFill>
                  <a:srgbClr val="000000"/>
                </a:solidFill>
                <a:latin typeface="Pigiarniq"/>
              </a:rPr>
              <a:t>ᐃᓄᐃᑦ ᖃᐅᔨᒪᓂᖏᓐᓄᑦ</a:t>
            </a:r>
            <a:r>
              <a:rPr b="0" lang="id-ID" sz="1800" spc="-1" strike="noStrike">
                <a:solidFill>
                  <a:srgbClr val="000000"/>
                </a:solidFill>
                <a:latin typeface="Pigiarniq"/>
              </a:rPr>
              <a:t> ᒪᓕᒐᕆᔭᐅᔪᑦ </a:t>
            </a:r>
            <a:r>
              <a:rPr b="1" i="1" lang="id-ID" sz="1800" spc="-1" strike="noStrike">
                <a:solidFill>
                  <a:srgbClr val="000000"/>
                </a:solidFill>
                <a:latin typeface="Pigiarniq"/>
              </a:rPr>
              <a:t>ᐊᕙᑎᒧᑦ ᑲᒪᑦᑎᐊᕐᓂᕐᒧᑦ</a:t>
            </a:r>
            <a:r>
              <a:rPr b="0" lang="id-ID" sz="1800" spc="-1" strike="noStrike">
                <a:solidFill>
                  <a:srgbClr val="000000"/>
                </a:solidFill>
                <a:latin typeface="Pigiarniq"/>
              </a:rPr>
              <a:t>, ᓯᕗᒧᐊᒃᑎᑦᓯᖁᓪᓗᒋᑦ ᐃᒡᓗᒌᑦᓯᐊᖅᑐᒥᒃ ᐱᖅᑯᓯᐅᔪᒥᒃ ᓄᓇᕗᑦ ᐊᕙᑎᖓᓄᑦ ᐊᒻᒪ ᓄᓇᒥᐅᑕᐅᔪᓄᑦ ᐊᑐᖅᑕᐅᔾᔪᑎᖏᓐᓄᑦ.</a:t>
            </a:r>
            <a:br>
              <a:rPr sz="2400"/>
            </a:br>
            <a:br>
              <a:rPr sz="2400"/>
            </a:br>
            <a:r>
              <a:rPr b="0" lang="id-ID" sz="1200" spc="-1" strike="noStrike">
                <a:solidFill>
                  <a:srgbClr val="000000"/>
                </a:solidFill>
                <a:latin typeface="Pigiarniq"/>
              </a:rPr>
              <a:t>ᐱᔭᐅᔪᑦ</a:t>
            </a:r>
            <a:r>
              <a:rPr b="0" lang="en-US" sz="1200" spc="-1" strike="noStrike">
                <a:solidFill>
                  <a:srgbClr val="000000"/>
                </a:solidFill>
                <a:latin typeface="Pigiarniq"/>
              </a:rPr>
              <a:t>:</a:t>
            </a:r>
            <a:r>
              <a:rPr b="0" lang="id-ID" sz="1200" spc="-1" strike="noStrike">
                <a:solidFill>
                  <a:srgbClr val="000000"/>
                </a:solidFill>
                <a:latin typeface="Pigiarniq"/>
              </a:rPr>
              <a:t> ᐱᓕᕆᕕᖓᓐᓂᑦ ᐊᕙᑎᓕᕆᔨᒃᑯᑦ, ᓄᓇᕗᑦ ᒐᕙᒪᒃᑯᖏᓐᓂ ᐱᓕᕆᐊᒃᓴᖏᓐᓄᑦ ᐸᕐᓇᐅᑎᖏᓐᓂ, </a:t>
            </a:r>
            <a:r>
              <a:rPr b="0" lang="en-US" sz="1200" spc="-1" strike="noStrike">
                <a:solidFill>
                  <a:srgbClr val="000000"/>
                </a:solidFill>
                <a:latin typeface="Pigiarniq"/>
              </a:rPr>
              <a:t> 2005 - 2006</a:t>
            </a:r>
            <a:r>
              <a:rPr b="0" lang="en-US" sz="1200" spc="-1" strike="noStrike" u="sng">
                <a:solidFill>
                  <a:srgbClr val="009999"/>
                </a:solidFill>
                <a:uFillTx/>
                <a:latin typeface="Pigiarniq"/>
                <a:hlinkClick r:id="rId1"/>
              </a:rPr>
              <a:t>_x000b_http://www.</a:t>
            </a:r>
            <a:r>
              <a:rPr b="0" lang="en-US" sz="1200" spc="-1" strike="noStrike" u="sng">
                <a:solidFill>
                  <a:srgbClr val="009999"/>
                </a:solidFill>
                <a:uFillTx/>
                <a:latin typeface="Pigiarniq"/>
                <a:hlinkClick r:id="rId2"/>
              </a:rPr>
              <a:t>gov</a:t>
            </a:r>
            <a:r>
              <a:rPr b="0" lang="en-US" sz="1200" spc="-1" strike="noStrike" u="sng">
                <a:solidFill>
                  <a:srgbClr val="009999"/>
                </a:solidFill>
                <a:uFillTx/>
                <a:latin typeface="Pigiarniq"/>
                <a:hlinkClick r:id="rId3"/>
              </a:rPr>
              <a:t>.</a:t>
            </a:r>
            <a:r>
              <a:rPr b="0" lang="en-US" sz="1200" spc="-1" strike="noStrike" u="sng">
                <a:solidFill>
                  <a:srgbClr val="009999"/>
                </a:solidFill>
                <a:uFillTx/>
                <a:latin typeface="Pigiarniq"/>
                <a:hlinkClick r:id="rId4"/>
              </a:rPr>
              <a:t>nu</a:t>
            </a:r>
            <a:r>
              <a:rPr b="0" lang="en-US" sz="1200" spc="-1" strike="noStrike" u="sng">
                <a:solidFill>
                  <a:srgbClr val="009999"/>
                </a:solidFill>
                <a:uFillTx/>
                <a:latin typeface="Pigiarniq"/>
                <a:hlinkClick r:id="rId5"/>
              </a:rPr>
              <a:t>.ca/finance/bp0506/env05.</a:t>
            </a:r>
            <a:r>
              <a:rPr b="0" lang="en-US" sz="1200" spc="-1" strike="noStrike" u="sng">
                <a:solidFill>
                  <a:srgbClr val="009999"/>
                </a:solidFill>
                <a:uFillTx/>
                <a:latin typeface="Pigiarniq"/>
                <a:hlinkClick r:id="rId6"/>
              </a:rPr>
              <a:t>pdf</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id-ID" sz="4000" spc="-1" strike="noStrike">
                <a:solidFill>
                  <a:srgbClr val="000000"/>
                </a:solidFill>
                <a:latin typeface="Pigiarniq"/>
              </a:rPr>
              <a:t>ᐃᓄᐃᑦ ᐃᓱᒪᒋᔭᖃᖅᐸᒃᐳᑦ ᓂᕐᔪᑎᓂᒃ ᐊᒻᒪ ᐆᒪᔪᓕᒫᑦᑎᐊᓂᒃ ᐊᔾᔨᒌᒃᑎᑕᐅᓪᓗᑎᒃ</a:t>
            </a:r>
            <a:r>
              <a:rPr b="0" lang="en-US" sz="4000" spc="-1" strike="noStrike">
                <a:solidFill>
                  <a:srgbClr val="000000"/>
                </a:solidFill>
                <a:latin typeface="Pigiarniq"/>
              </a:rPr>
              <a:t>”</a:t>
            </a:r>
            <a:endParaRPr b="0" lang="en-US" sz="4000" spc="-1" strike="noStrike">
              <a:solidFill>
                <a:srgbClr val="000000"/>
              </a:solidFill>
              <a:latin typeface="Arial"/>
            </a:endParaRPr>
          </a:p>
        </p:txBody>
      </p:sp>
      <p:sp>
        <p:nvSpPr>
          <p:cNvPr id="43" name="PlaceHolder 2"/>
          <p:cNvSpPr>
            <a:spLocks noGrp="1"/>
          </p:cNvSpPr>
          <p:nvPr>
            <p:ph type="subTitle"/>
          </p:nvPr>
        </p:nvSpPr>
        <p:spPr>
          <a:xfrm>
            <a:off x="533520" y="3886200"/>
            <a:ext cx="8076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ᐱᔭᐅᔪᑦ</a:t>
            </a:r>
            <a:r>
              <a:rPr b="0" lang="en-US" sz="3200" spc="-1" strike="noStrike">
                <a:solidFill>
                  <a:srgbClr val="000000"/>
                </a:solidFill>
                <a:latin typeface="Arial"/>
              </a:rPr>
              <a:t>:  </a:t>
            </a:r>
            <a:r>
              <a:rPr b="0" lang="en-US" sz="1200" spc="-1" strike="noStrike" u="sng">
                <a:solidFill>
                  <a:srgbClr val="009999"/>
                </a:solidFill>
                <a:uFillTx/>
                <a:latin typeface="Arial"/>
                <a:hlinkClick r:id="rId1"/>
              </a:rPr>
              <a:t>http://www.</a:t>
            </a:r>
            <a:r>
              <a:rPr b="0" lang="en-US" sz="1200" spc="-1" strike="noStrike" u="sng">
                <a:solidFill>
                  <a:srgbClr val="009999"/>
                </a:solidFill>
                <a:uFillTx/>
                <a:latin typeface="Arial"/>
                <a:hlinkClick r:id="rId2"/>
              </a:rPr>
              <a:t>tunngavik</a:t>
            </a:r>
            <a:r>
              <a:rPr b="0" lang="en-US" sz="1200" spc="-1" strike="noStrike" u="sng">
                <a:solidFill>
                  <a:srgbClr val="009999"/>
                </a:solidFill>
                <a:uFillTx/>
                <a:latin typeface="Arial"/>
                <a:hlinkClick r:id="rId3"/>
              </a:rPr>
              <a:t>.com/publications/environment/climate-change-</a:t>
            </a:r>
            <a:r>
              <a:rPr b="0" lang="en-US" sz="1200" spc="-1" strike="noStrike" u="sng">
                <a:solidFill>
                  <a:srgbClr val="009999"/>
                </a:solidFill>
                <a:uFillTx/>
                <a:latin typeface="Arial"/>
                <a:hlinkClick r:id="rId4"/>
              </a:rPr>
              <a:t>inuit</a:t>
            </a:r>
            <a:r>
              <a:rPr b="0" lang="en-US" sz="1200" spc="-1" strike="noStrike" u="sng">
                <a:solidFill>
                  <a:srgbClr val="009999"/>
                </a:solidFill>
                <a:uFillTx/>
                <a:latin typeface="Arial"/>
                <a:hlinkClick r:id="rId5"/>
              </a:rPr>
              <a:t>-perspective-en.</a:t>
            </a:r>
            <a:r>
              <a:rPr b="0" lang="en-US" sz="1200" spc="-1" strike="noStrike" u="sng">
                <a:solidFill>
                  <a:srgbClr val="009999"/>
                </a:solidFill>
                <a:uFillTx/>
                <a:latin typeface="Arial"/>
                <a:hlinkClick r:id="rId6"/>
              </a:rPr>
              <a:t>pd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ᓐᓇᐅᒪᓂᖅ ᓄᓇᒥ</a:t>
            </a:r>
            <a:endParaRPr b="0" lang="en-US" sz="4400" spc="-1" strike="noStrike">
              <a:solidFill>
                <a:srgbClr val="000000"/>
              </a:solidFill>
              <a:latin typeface="Arial"/>
            </a:endParaRPr>
          </a:p>
        </p:txBody>
      </p:sp>
      <p:sp>
        <p:nvSpPr>
          <p:cNvPr id="4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id-ID" sz="2000" spc="-1" strike="noStrike">
                <a:solidFill>
                  <a:srgbClr val="000000"/>
                </a:solidFill>
                <a:latin typeface="Pigiarniq"/>
              </a:rPr>
              <a:t>ᓇᑦᑎᕐᓯᐅᕐᓂᕐᒥᒃ, ᐊᖑᑎᒃᓴᒪ ᐃᓕᓐᓂᐊᖅᑎᓚᐅᕐᒫᖓ.  ᐅᓇ ᐊᒡᓘᓪᖤᕐᒪᑦ ᑐᑎᓗᑎᑦ ᒪᐅᓇ ᑖᓐᓇ ᐊᒡᓗ ᓯᕗᓂᑦᑎᐊᕐᓃᓕᕐᓗᑎᑦ. ᐃᓕᓯᓗᑎᑦ ᐃᓯᒐᒃᐱᑦ ᐊᑖᓄᑦ, ᓲᕐᓗ ᑐᒃᑑᑉ ᐊᒥᖓᓂᒃ, ᓅᑦᑐᓐᓇᕐᓂᐊᕋᕕᒋᑦ ᐃᓯᒐᑎᑦ ᓂᐱᖃᖏᓪᓗᒍ ᐅᖅᑰᓴᖅᑎᓪᓗᑎᑦ.  ᑕᐃᒪᓕ ᐃᓯᒐᕕᑦ ᐊᑖᓃᑎᑦᑎᖏᒃᑯᕕᑦ ᓇᑦᑎᐅᑉ ᑐᓵᔪᓐᓇᕐᒫᒍ ᕿᑭᕐᕋᕐᕙᓗᐃᑦ.</a:t>
            </a:r>
            <a:r>
              <a:rPr b="0" lang="en-US" sz="2000" spc="-1" strike="noStrike">
                <a:solidFill>
                  <a:srgbClr val="000000"/>
                </a:solidFill>
                <a:latin typeface="Pigiarniq"/>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 </a:t>
            </a:r>
            <a:r>
              <a:rPr b="0" lang="id-ID" sz="2000" spc="-1" strike="noStrike">
                <a:solidFill>
                  <a:srgbClr val="000000"/>
                </a:solidFill>
                <a:latin typeface="Pigiarniq"/>
              </a:rPr>
              <a:t>ᔮᒃ ᐊᓗᓇᒃ, ᐃᓄᐃᓐᓇᐃᑦ</a:t>
            </a:r>
            <a:r>
              <a:rPr b="0" lang="en-US" sz="2000" spc="-1" strike="noStrike">
                <a:solidFill>
                  <a:srgbClr val="000000"/>
                </a:solidFill>
                <a:latin typeface="Pigiarniq"/>
              </a:rPr>
              <a:t>, Ir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ᑕᒫᓂ ᐅᒥᖕᒪᖃᓚᐅᕐᓯᒪᖏᑦᑐᖅ, ᑲᓇᖕᓇᖅᐸᓯᖕᒧᑦ ᐊᐅᓪᓚᓕᓚᐅᕐᓯᒪᔪᒍᑦ ᑰᖕᒧᑦ ᐅᒥᖕᒪᒐᓱᒋᐊᕐᖢᑕ.  ᐊᒥᖏᑦ ᐊᓪᓕᓂᕆᕙᓚᐅᖅᑕᕗᑦ ᓂᕿᖏᑦ ᓂᕿᒋᓪᓗᑎᒍ. ᑭᓱᑯᑦᑎᐊᓂᒡᓘᓐᓂᖅ ᐃᒃᓯᓐᓇᕐᓯᕙᓚᐅᖏᑦᑐᒍᑦ</a:t>
            </a:r>
            <a:r>
              <a:rPr b="0" lang="en-US" sz="2000" spc="-1" strike="noStrike">
                <a:solidFill>
                  <a:srgbClr val="000000"/>
                </a:solidFill>
                <a:latin typeface="Pigiarniq"/>
              </a:rPr>
              <a:t>.” *</a:t>
            </a: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	</a:t>
            </a:r>
            <a:r>
              <a:rPr b="0" lang="en-US" sz="2000" spc="-1" strike="noStrike">
                <a:solidFill>
                  <a:srgbClr val="000000"/>
                </a:solidFill>
                <a:latin typeface="Pigiarniq"/>
              </a:rPr>
              <a:t>-</a:t>
            </a:r>
            <a:r>
              <a:rPr b="0" lang="id-ID" sz="2000" spc="-1" strike="noStrike">
                <a:solidFill>
                  <a:srgbClr val="000000"/>
                </a:solidFill>
                <a:latin typeface="Pigiarniq"/>
              </a:rPr>
              <a:t>ᔫ ᐊᑕᐅᔪᐊᒃᔪᒃ, ᐃᓄᐃᓐᓇᐃᑦ</a:t>
            </a:r>
            <a:r>
              <a:rPr b="0" lang="en-US" sz="2000" spc="-1" strike="noStrike">
                <a:solidFill>
                  <a:srgbClr val="000000"/>
                </a:solidFill>
                <a:latin typeface="Pigiarniq"/>
              </a:rPr>
              <a:t>, Iron</a:t>
            </a: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igiarniq"/>
              </a:rPr>
              <a:t>	</a:t>
            </a:r>
            <a:r>
              <a:rPr b="0" lang="en-US" sz="1200" spc="-1" strike="noStrike">
                <a:solidFill>
                  <a:srgbClr val="000000"/>
                </a:solidFill>
                <a:latin typeface="Pigiarniq"/>
              </a:rPr>
              <a:t>* </a:t>
            </a:r>
            <a:r>
              <a:rPr b="0" lang="id-ID" sz="1200" spc="-1" strike="noStrike">
                <a:solidFill>
                  <a:srgbClr val="000000"/>
                </a:solidFill>
                <a:latin typeface="Pigiarniq"/>
              </a:rPr>
              <a:t>ᐱᔭᐅᔪᑦ: ᐱᐊᓇᑦ, ᔮᓐ ᐊᒻᒪ ᕋᐅᓕ, ᓱᓴᓐ.  “ᐅᓂᒃᑳᖅᑐᐊᑦ ᓄᓇᕗᒥ” ᒪᑭᐅᓪ- ᑯᐃᓐ ᓯᓚᑦᑐᓴᕐᕕᒡᔪᐊᖓᓂ ᑐᓴᒐᒃᓴᑦ </a:t>
            </a:r>
            <a:r>
              <a:rPr b="0" lang="en-US" sz="1200" spc="-1" strike="noStrike">
                <a:solidFill>
                  <a:srgbClr val="000000"/>
                </a:solidFill>
                <a:latin typeface="Pigiarniq"/>
              </a:rPr>
              <a:t>2004.</a:t>
            </a:r>
            <a:endParaRPr b="0" lang="en-US" sz="12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ᐃᓄᐃᑦ ᖃᐅᔨᒪᔭᑐᖃᖏᑦ ᐊᓯᕈᖅᐸᓪᓕᐊᓂᖓ</a:t>
            </a:r>
            <a:endParaRPr b="0" lang="en-US" sz="4400" spc="-1" strike="noStrike">
              <a:solidFill>
                <a:srgbClr val="000000"/>
              </a:solidFill>
              <a:latin typeface="Arial"/>
            </a:endParaRPr>
          </a:p>
        </p:txBody>
      </p:sp>
      <p:sp>
        <p:nvSpPr>
          <p:cNvPr id="47" name="PlaceHolder 2"/>
          <p:cNvSpPr>
            <a:spLocks noGrp="1"/>
          </p:cNvSpPr>
          <p:nvPr>
            <p:ph/>
          </p:nvPr>
        </p:nvSpPr>
        <p:spPr>
          <a:xfrm>
            <a:off x="457200" y="1676160"/>
            <a:ext cx="830592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Pigiarniq"/>
              </a:rPr>
              <a:t>“</a:t>
            </a:r>
            <a:r>
              <a:rPr b="0" lang="id-ID" sz="2400" spc="-1" strike="noStrike">
                <a:solidFill>
                  <a:srgbClr val="000000"/>
                </a:solidFill>
                <a:latin typeface="Pigiarniq"/>
              </a:rPr>
              <a:t>ᐃᓄᐃᑦ ᖃᐅᔨᒪᔭᑐᖃᖓ ᐊᑐᕌᐃᒐᒃᑯ ᓄᓇᒥ ᐊᐅᓪᓚᕐᓯᒪᑦᓱᖓ... ᐊᑐᖃᑦᑕᖅᑐᖓ ᓴᓇᕐᕈᑎᓂᒃ ᑭᓱᑐᐃᓐᓇᒥᒃ ᐊᑐᕆᐊᖃᖅᑕᓐᓄᑦ.  ...ᐅᓪᓗᕐᒥ ᐃᖃᓪᓕᐊᓚᐅᕐᓯᒪᔪᖓ ᐊᐃᑉᐸᕋᓗ ᓂᕐᓕᖕᓂᐊᕐᓯᒪᓪᓗᓂ ᐅᐸᒍᑎᔪᓐᓇᕋᓂ ᓂᕐᓕᖕᓄᑦ... ᐅᕙᓐᓄᑦ ᐊᐱᕆᓕᓚᐅᕐᓯᒪᔪᖅ ᖃᓄᕐᓕ ᐱᓂᐊᕐᒪᖔᑦ... ᑕᑭᔪᒥᒃ ᐊᒃᑐᓈᖃᕋᒪ..ᑕᑯᔭᓐᓄᑦ ᐅᔭᕋᖕᒧᑦ ᕿᓚᒃᓱᒍ....ᓯᑰᑉ ᒥᒃᓵᓄᑦ ᐃᒋᓚᐅᖅᑐᒍ.  ....ᐊᒧᓕᕐᓱᒍ ᐊᒃᑐᓇᖅ ᑕᐃᒪᓐᓇ ᓂᕐᓕᓚᐅᕐᓯᒪᔪᒍᑦ... ᓇᖕᒥᓂᖅ ᓴᓇᔭᕋᓄᑦ.</a:t>
            </a:r>
            <a:r>
              <a:rPr b="0" lang="en-US" sz="2400" spc="-1" strike="noStrike">
                <a:solidFill>
                  <a:srgbClr val="000000"/>
                </a:solidFill>
                <a:latin typeface="Pigiarniq"/>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ᓯᐊᓯ ᑭᐊᓇᓕ</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ᓴᓇᓐᖑᐊᖅᑎ, ᑭᓐᖓᐃᑦ</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ᕐᕌᒍᒥ ᑕᐃᒎᓯᑦ</a:t>
            </a:r>
            <a:endParaRPr b="0" lang="en-US" sz="4400" spc="-1" strike="noStrike">
              <a:solidFill>
                <a:srgbClr val="000000"/>
              </a:solidFill>
              <a:latin typeface="Arial"/>
            </a:endParaRPr>
          </a:p>
        </p:txBody>
      </p:sp>
      <p:sp>
        <p:nvSpPr>
          <p:cNvPr id="49" name="PlaceHolder 2"/>
          <p:cNvSpPr>
            <a:spLocks noGrp="1"/>
          </p:cNvSpPr>
          <p:nvPr>
            <p:ph/>
          </p:nvPr>
        </p:nvSpPr>
        <p:spPr>
          <a:xfrm>
            <a:off x="914400" y="1219320"/>
            <a:ext cx="82296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 </a:t>
            </a:r>
            <a:r>
              <a:rPr b="0" lang="id-ID" sz="2800" spc="-1" strike="noStrike">
                <a:solidFill>
                  <a:srgbClr val="000000"/>
                </a:solidFill>
                <a:latin typeface="Pigiarniq"/>
              </a:rPr>
              <a:t>8-ᖑᖕᒪᑕ ᐊᕐᕌᒍᒥ ᐃᓄᐃᑦ ᑕᐃᒎᓯᕆᕙᓚᐅᕐᓯᒪᔭᖏᑦ ᓇᓗᓇᐃᕐᓯᔾᔪᑎᒋᓪᓗᒋᑦ.</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ᐅᖅ, (ᑎᓯᐱᕆ, ᔮᓐᓄᐊᕆ, ᕖᕝᕗᐊ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ᖓᑲᔮᖅ (ᒫᔾᔨ)</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ᖓᒃᓵᖅ (ᐊᐃᕐᕆᓕ)</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ᕐᖔᖅ (ᒪᐃ, ᔫᓂ, ᐱᒋᐊᕐᓂᖓ ᔪᓚᐃᑉ)</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ᐊᐅᔭᖅ (ᐃᓱᐊᓂᑦ ᔪᓚᐃᑦ, ᐊᒡᒌᓯ)</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ᒃᓴᔮᖅ (ᓯᑎᐱ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ᒃᓵᖅ (ᐊᒃᑑᕙ)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ᑭᐊᖅ (ᓄᕕᐱᕆ)</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igiarniq"/>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ᐊᕐᕌᒍᒥ ᑕᐃᒎᓯᑦ</a:t>
            </a:r>
            <a:endParaRPr b="0" lang="en-US" sz="4400" spc="-1" strike="noStrike">
              <a:solidFill>
                <a:srgbClr val="000000"/>
              </a:solidFill>
              <a:latin typeface="Arial"/>
            </a:endParaRPr>
          </a:p>
        </p:txBody>
      </p:sp>
      <p:sp>
        <p:nvSpPr>
          <p:cNvPr id="51" name="PlaceHolder 2"/>
          <p:cNvSpPr>
            <a:spLocks noGrp="1"/>
          </p:cNvSpPr>
          <p:nvPr>
            <p:ph/>
          </p:nvPr>
        </p:nvSpPr>
        <p:spPr>
          <a:xfrm>
            <a:off x="0" y="1981080"/>
            <a:ext cx="8229600" cy="4145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id-ID" sz="1800" spc="-1" strike="noStrike">
                <a:solidFill>
                  <a:srgbClr val="000000"/>
                </a:solidFill>
                <a:latin typeface="Pigiarniq"/>
              </a:rPr>
              <a:t>ᐃᓄᐃᑦ ᑕᑎᖃᖃᑦᑕᖅᑐᑦ ᐃᑲᔪᕈᑎᒋᓪᓗᒋᑦ ᓇᓗᓇᐃᕐᑯᑕᕆᓪᓗᒍ ᓯᓚᒧᑦ ᐊᕐᕌᒍᒧᑦ ᐊᓯᔾᔨᖅᐸᓪᓕᐊᔪᒧᑦ ᖃᐅᔨᒪᔾᔪᑎᒋᓪᓗᒍ.</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igiarniq"/>
              </a:rPr>
              <a:t>	</a:t>
            </a:r>
            <a:r>
              <a:rPr b="0" lang="id-ID" sz="1800" spc="-1" strike="noStrike">
                <a:solidFill>
                  <a:srgbClr val="000000"/>
                </a:solidFill>
                <a:latin typeface="Pigiarniq"/>
              </a:rPr>
              <a:t>ᐆᒃᑑᑎᒋᓗᒍ</a:t>
            </a:r>
            <a:r>
              <a:rPr b="0" lang="en-US" sz="1800" spc="-1" strike="noStrike">
                <a:solidFill>
                  <a:srgbClr val="000000"/>
                </a:solidFill>
                <a:latin typeface="Pigiarniq"/>
              </a:rPr>
              <a: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igiarniq"/>
              </a:rPr>
              <a:t> “…</a:t>
            </a:r>
            <a:r>
              <a:rPr b="0" lang="id-ID" sz="1600" spc="-1" strike="noStrike">
                <a:solidFill>
                  <a:srgbClr val="000000"/>
                </a:solidFill>
                <a:latin typeface="Pigiarniq"/>
              </a:rPr>
              <a:t>ᐊᕗᓐᓂᕕᖕᒥ (ᒫᔾᔨᒥ), ᑐᒃᑐᐃᑦ ᐃᕐᓂᐊᕐᓗᖃᑦᑕᕐᒪᑕ, ᓯᓚᐅᑉ ᐃᔾᔭᓂᖓᓄᑦ ᓂᒡᓚᓱᓗᐊᒧᑦ, ᐊᒻᒪ ᓂᒡᓚᓱᓗᐊᒧᑦ, ᖃᒧᑏᑦ ᐱᐊᖏᑦᑐᐊᓘᕙᒡᖢᑎᒃ ᐅᓪᓛᒃᑯᑦ, ᑭᓯᐊᓂ ᐅᓪᓗᕈᖅᐸᓪᓕᐊᓪᓗᓂ ᐱᐊᒃᓯᕙᓪᓕᐊᓪᓗᑎᒃ.</a:t>
            </a:r>
            <a:r>
              <a:rPr b="0" lang="en-US" sz="1600" spc="-1" strike="noStrike">
                <a:solidFill>
                  <a:srgbClr val="000000"/>
                </a:solidFill>
                <a:latin typeface="Pigiarniq"/>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Pigiarniq"/>
              </a:rPr>
              <a:t>ᐅᑭᐅᕐᒥ (ᔮᓐᓄᐊᕆ, ᕖᕝᕗᐊᕆ) ᑐᕙᖃᓕᖃᑦᑕᖅᑐᖅ, ᑕᐅᕕᒡᔪᐊᖑᓪᓗᓂᓗ ᐊᕐᕌᒍᒥ, ᐅᑭᐅᒃᑯᑦ ᓯᕿᓂᖃᖅᑎᓐᓇᒍ, </a:t>
            </a:r>
            <a:r>
              <a:rPr b="0" i="1" lang="id-ID" sz="1600" spc="-1" strike="noStrike">
                <a:solidFill>
                  <a:srgbClr val="000000"/>
                </a:solidFill>
                <a:latin typeface="Pigiarniq"/>
              </a:rPr>
              <a:t>ᑎᕙᔪᑦ</a:t>
            </a:r>
            <a:r>
              <a:rPr b="0" lang="id-ID" sz="1600" spc="-1" strike="noStrike">
                <a:solidFill>
                  <a:srgbClr val="000000"/>
                </a:solidFill>
                <a:latin typeface="Pigiarniq"/>
              </a:rPr>
              <a:t>, ᓄᓇᖃᖅᑐᑦ ᑐᕙᒥ, ᐊᓯᖏᓪᓗ. </a:t>
            </a:r>
            <a:r>
              <a:rPr b="0" lang="en-US" sz="1600" spc="-1" strike="noStrike">
                <a:solidFill>
                  <a:srgbClr val="000000"/>
                </a:solidFill>
                <a:latin typeface="Pigiarniq"/>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id-ID" sz="1000" spc="-1" strike="noStrike">
                <a:solidFill>
                  <a:srgbClr val="000000"/>
                </a:solidFill>
                <a:latin typeface="Pigiarniq"/>
              </a:rPr>
              <a:t>ᐱᔭᐅᔪᑦ: ᐱᐊᓇᑦ, ᔮᓐ ᐊᒻᒪ ᕋᐅᓕ, ᓱᓴᓐ.  “ᐅᓂᒃᑳᖅᑐᐊᑦ ᓄᓇᕗᒥ” ᒪᑭᐅᓪ- ᑯᐃᓐ ᓯᓚᑦᑐᓴᕐᕕᒡᔪᐊᖓᓂ ᑐᓴᒐᒃᓴᑦ </a:t>
            </a:r>
            <a:r>
              <a:rPr b="0" lang="en-US" sz="1000" spc="-1" strike="noStrike">
                <a:solidFill>
                  <a:srgbClr val="000000"/>
                </a:solidFill>
                <a:latin typeface="Pigiarniq"/>
              </a:rPr>
              <a:t>200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80520"/>
            <a:ext cx="7086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ᐊᕙᑎᓕᕆᓂᕐᒧᑦ ᒪᓕᒐᓕᕆᓂᖅ</a:t>
            </a:r>
            <a:endParaRPr b="0" lang="en-US" sz="4000" spc="-1" strike="noStrike">
              <a:solidFill>
                <a:srgbClr val="000000"/>
              </a:solidFill>
              <a:latin typeface="Arial"/>
            </a:endParaRPr>
          </a:p>
        </p:txBody>
      </p:sp>
      <p:sp>
        <p:nvSpPr>
          <p:cNvPr id="53" name=""/>
          <p:cNvSpPr/>
          <p:nvPr/>
        </p:nvSpPr>
        <p:spPr>
          <a:xfrm>
            <a:off x="838080" y="129528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igiarniq"/>
              </a:rPr>
              <a:t>‘</a:t>
            </a:r>
            <a:r>
              <a:rPr b="0" lang="id-ID" sz="4000" spc="-1" strike="noStrike">
                <a:solidFill>
                  <a:srgbClr val="000000"/>
                </a:solidFill>
                <a:latin typeface="Pigiarniq"/>
              </a:rPr>
              <a:t>ᐱᔭᕇᖅᐳᖓ</a:t>
            </a:r>
            <a:r>
              <a:rPr b="0" lang="en-US" sz="4000" spc="-1" strike="noStrike">
                <a:solidFill>
                  <a:srgbClr val="000000"/>
                </a:solidFill>
                <a:latin typeface="Pigiarniq"/>
              </a:rPr>
              <a: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4" name="PlaceHolder 2"/>
          <p:cNvSpPr>
            <a:spLocks noGrp="1"/>
          </p:cNvSpPr>
          <p:nvPr>
            <p:ph type="subTitle"/>
          </p:nvPr>
        </p:nvSpPr>
        <p:spPr>
          <a:xfrm>
            <a:off x="457200" y="2057040"/>
            <a:ext cx="8305920" cy="68580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ᐃᓕᖅᑯᓯᖓᓐᓂ, ᐊᑐᓂ ᐃᓱᒪᖃᖅᑐᐃᓐᓇᐅᖕᒪᑕ, ᑖᒃᑯᐊᓗ ᐃᓱᒪᖏᑦ ᐊᓪᓕᕐᓇᖅᑐᐃᓐᓇᐅᓪᓗᑎ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ᖃᓪᓚᒃᑐᖃᖅᑎᓪᓗᒍ ᓂᓪᓕᕆᐊᖃᖏᑦᑐᑦ ᑭᓯᐊᓂ ᑖᓐᓇ ᐅᖃᓪᒪᒃᑐᖅ ᐅᖃᕈᒪᔭᒥᓂᒃ ᐱᔭᕇᒃᓯᒃᐸᑦ ᐃᑲᔪᕈᑎᒋᓂᐊᖅᑕᒥᓂᒃ. ᑖᓐᓇᓘᓐᓃᖅ ᓂᐱᖃᖏᓪᓗᓂ ᐃᓱᒪᒃᓴᕐᓯᐅᕈᑎᖃᕈᒪᒃᐸᑦ, ᐃᓘᓐᓇᖏᑦ ᓈᓚᒋᐊᖃᖅᑐᑦ, ᐅᑕᖅᑭᑦᓯᐊᕐᓗᑎᒃ ᓂᓪᓕᕐᕕᒋᓂᐊᖅᑕᒥᓂ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ᖃᓪᓚᒃᑎᐅᔪᖅ ᑭᓯᐊᓂ “ᐱᔭᕇᕐᓂᕋᖅᐸᑦ” ᐊᓯᐊᓂᒃ ᐃᓱᒪᒋᔭᒥᓂᒃ ᓂᓪᓕᖅᑐᖃᓕᕋᔭᕐᓗᓂ.</a:t>
            </a:r>
            <a:r>
              <a:rPr b="0" lang="en-US" sz="2000" spc="-1" strike="noStrike">
                <a:solidFill>
                  <a:srgbClr val="000000"/>
                </a:solidFill>
                <a:latin typeface="Pigiarniq"/>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a:t>
            </a:r>
            <a:r>
              <a:rPr b="0" lang="id-ID" sz="2000" spc="-1" strike="noStrike">
                <a:solidFill>
                  <a:srgbClr val="000000"/>
                </a:solidFill>
                <a:latin typeface="Pigiarniq"/>
              </a:rPr>
              <a:t>- ᕋᐃᑦᓱ ᐊᑎᑦᑐᖅ ᕿᑦᓱᐊᓕᒃ</a:t>
            </a:r>
            <a:endParaRPr b="0" lang="en-US" sz="2000" spc="-1" strike="noStrike">
              <a:solidFill>
                <a:srgbClr val="000000"/>
              </a:solidFill>
              <a:latin typeface="Arial"/>
            </a:endParaRPr>
          </a:p>
        </p:txBody>
      </p:sp>
      <p:sp>
        <p:nvSpPr>
          <p:cNvPr id="55" name=""/>
          <p:cNvSpPr/>
          <p:nvPr/>
        </p:nvSpPr>
        <p:spPr>
          <a:xfrm>
            <a:off x="2590920" y="38862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895480" y="601992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id-ID" sz="1400" spc="-1" strike="noStrike">
                <a:solidFill>
                  <a:srgbClr val="000000"/>
                </a:solidFill>
                <a:latin typeface="Pigiarniq"/>
              </a:rPr>
              <a:t>ᓄᓇᕗᑦ</a:t>
            </a:r>
            <a:r>
              <a:rPr b="0" lang="en-US" sz="1400" spc="-1" strike="noStrike">
                <a:solidFill>
                  <a:srgbClr val="000000"/>
                </a:solidFill>
                <a:latin typeface="Pigiarniq"/>
              </a:rPr>
              <a:t> ’99. </a:t>
            </a:r>
            <a:r>
              <a:rPr b="0" i="1" lang="id-ID" sz="1400" spc="-1" strike="noStrike">
                <a:solidFill>
                  <a:srgbClr val="000000"/>
                </a:solidFill>
                <a:latin typeface="Pigiarniq"/>
              </a:rPr>
              <a:t>ᐃᓅᓂᖅ ᐊᓯᔾᔨᖅᐸᓪᓕᐊᔪᒥ</a:t>
            </a:r>
            <a:r>
              <a:rPr b="0" lang="en-US" sz="1400" spc="-1" strike="noStrike">
                <a:solidFill>
                  <a:srgbClr val="000000"/>
                </a:solidFill>
                <a:latin typeface="Pigiarniq"/>
              </a:rPr>
              <a:t>. 10 </a:t>
            </a:r>
            <a:r>
              <a:rPr b="0" lang="id-ID" sz="1400" spc="-1" strike="noStrike">
                <a:solidFill>
                  <a:srgbClr val="000000"/>
                </a:solidFill>
                <a:latin typeface="Pigiarniq"/>
              </a:rPr>
              <a:t>ᕖᕝᕗᐊᕆ</a:t>
            </a:r>
            <a:r>
              <a:rPr b="0" lang="en-US" sz="1400" spc="-1" strike="noStrike">
                <a:solidFill>
                  <a:srgbClr val="000000"/>
                </a:solidFill>
                <a:latin typeface="Pigiarniq"/>
              </a:rPr>
              <a:t> 2007. </a:t>
            </a:r>
            <a:r>
              <a:rPr b="0" lang="id-ID" sz="1400" spc="-1" strike="noStrike">
                <a:solidFill>
                  <a:srgbClr val="000000"/>
                </a:solidFill>
                <a:latin typeface="Pigiarniq"/>
              </a:rPr>
              <a:t>ᐱᔭᐅᔪᑦ</a:t>
            </a:r>
            <a:r>
              <a:rPr b="0" lang="en-US" sz="1400" spc="-1" strike="noStrike">
                <a:solidFill>
                  <a:srgbClr val="000000"/>
                </a:solidFill>
                <a:latin typeface="Pigiarniq"/>
              </a:rPr>
              <a:t>:  &lt;http://www.nunavut.com/nunavut99/english/change.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ᐊᒃᑐᐃᓂᖓ ᓯᓚᐅᑉ ᐊᓯᔾᔨᖅᐸᓪᓕᐊᓂᖓᑕ</a:t>
            </a:r>
            <a:endParaRPr b="0" lang="en-US" sz="4000" spc="-1" strike="noStrike">
              <a:solidFill>
                <a:srgbClr val="000000"/>
              </a:solidFill>
              <a:latin typeface="Arial"/>
            </a:endParaRPr>
          </a:p>
        </p:txBody>
      </p:sp>
      <p:sp>
        <p:nvSpPr>
          <p:cNvPr id="58" name="PlaceHolder 2"/>
          <p:cNvSpPr>
            <a:spLocks noGrp="1"/>
          </p:cNvSpPr>
          <p:nvPr>
            <p:ph/>
          </p:nvPr>
        </p:nvSpPr>
        <p:spPr>
          <a:xfrm>
            <a:off x="380880" y="1981080"/>
            <a:ext cx="838224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ᐅᓕᓐᓂᖅ ᐊᖏᓕᕙᓪᓕᐊᑎᓪᓗᒍ ᓯᒡᔭᖓᓂᒃ ᓄᖑᑎᕆᕙᓪᓕᐊᕗᖅ ᐊᒻᒪ ᐃᒪᕈᔾᔭᐅᕙᒃᑐᑦ ᐅᓄᕐᓂᖅᓴᐅᓕᕐᖢᑎᒃ</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ᖑᓇᓱᒃᑎᐅᔪᑦ ᓯᑯᒥᒃ ᐊᑐᕆᐊᖃᖅᐸᓚᐅᖅᑐᑦ, ᐊᐅᓪᓚᖅᑎᓪᓗᒋᑦ, ᐃᖃᓪᓕᐊᖅᑎᓪᓗᒋᓪᓗ, ᑖᒃᑯᐊᓗ ᐅᓗᕆᐊᓇᖅᑐᒦᑐᐃᓐᓇᕆᐊᖃᖅᑐᑦ ᑕᐃᒪᐃᖃᑦᑕᕈᓐᓃᕐᓗᑎᒃ</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ᓱᒃᑲᔪᒻᒪᕆᖕᒥᒃ ᐊᓯᕈᖅᐸᓪᓕᐊᓂᖓ ᓯᓚᐅᑉ, ᓯᓚᒥᒃ ᓇᓚᐅᑦᑖᕐᓯᔭᕆᐊᒃᓴᖅ ᓇᓕᖅᑯᑦᑕᐃᓇᕈᓐᓃᕐᒪᑦ, ᓯᓚᐅᑉ ᐊᓯᔾᔨᖅᓴᕋᐃᓐᓂᖓᓄᑦ ᐅᕝᕙᓘᓐᓃᑦ ᐃᓕᖅᑯᓯᕐᓱᖏᓐᓂᖓᓄᑦ</a:t>
            </a:r>
            <a:endParaRPr b="0" lang="en-US" sz="2000" spc="-1" strike="noStrike">
              <a:solidFill>
                <a:srgbClr val="000000"/>
              </a:solidFill>
              <a:latin typeface="Arial"/>
            </a:endParaRPr>
          </a:p>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ᓇᓕᐅᔪᑦ ᐃᓚᖏᑦ ᓄᓇᒥᖕᓂᒃ ᕿᒪᐃᔭᕆᐊᖃᓕᕐᒪᑕ.</a:t>
            </a:r>
            <a:endParaRPr b="0" lang="en-US" sz="2000" spc="-1" strike="noStrike">
              <a:solidFill>
                <a:srgbClr val="000000"/>
              </a:solidFill>
              <a:latin typeface="Arial"/>
            </a:endParaRPr>
          </a:p>
        </p:txBody>
      </p:sp>
      <p:sp>
        <p:nvSpPr>
          <p:cNvPr id="59" name=""/>
          <p:cNvSpPr/>
          <p:nvPr/>
        </p:nvSpPr>
        <p:spPr>
          <a:xfrm>
            <a:off x="838080" y="6095880"/>
            <a:ext cx="807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ᓄᓇᒥᐅᑕᓕᕆᔨᒃᑯᑦ ᑲᓇᑕᒥ</a:t>
            </a:r>
            <a:r>
              <a:rPr b="0" lang="en-US" sz="1200" spc="-1" strike="noStrike">
                <a:solidFill>
                  <a:srgbClr val="000000"/>
                </a:solidFill>
                <a:latin typeface="Pigiarniq"/>
              </a:rPr>
              <a:t>. </a:t>
            </a:r>
            <a:r>
              <a:rPr b="0" i="1" lang="id-ID" sz="1200" spc="-1" strike="noStrike">
                <a:solidFill>
                  <a:srgbClr val="000000"/>
                </a:solidFill>
                <a:latin typeface="Pigiarniq"/>
              </a:rPr>
              <a:t>ᓯᓚᐅᑉ ᐊᓯᔾᔨᖅᐸᓪᓕᐊᓂᖓ ᑲᓇᑕᒥ: ᐊᒡᒍᖅᑐᕐᓯᒪᓂᕐᒥ ᓯᓚᐅᑉ ᐊᓯᔾᔨᖅᐸᓪᓕᐊᓂᖏᑦ - ᓄᓇᕗᑦ</a:t>
            </a:r>
            <a:r>
              <a:rPr b="0" lang="en-US" sz="1200" spc="-1" strike="noStrike">
                <a:solidFill>
                  <a:srgbClr val="000000"/>
                </a:solidFill>
                <a:latin typeface="Pigiarniq"/>
              </a:rPr>
              <a:t>. 10 </a:t>
            </a:r>
            <a:r>
              <a:rPr b="0" lang="id-ID" sz="1200" spc="-1" strike="noStrike">
                <a:solidFill>
                  <a:srgbClr val="000000"/>
                </a:solidFill>
                <a:latin typeface="Pigiarniq"/>
              </a:rPr>
              <a:t>ᕖᕝᕗᐊᕆ</a:t>
            </a:r>
            <a:r>
              <a:rPr b="0" lang="en-US" sz="1200" spc="-1" strike="noStrike">
                <a:solidFill>
                  <a:srgbClr val="000000"/>
                </a:solidFill>
                <a:latin typeface="Pigiarniq"/>
              </a:rPr>
              <a:t> 2007. &lt;http://www.adaptation.nrcan.gc.ca/posters/guides/nunavut_e.php&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ᐱᕙᓪᓕᐊᓂᖅ ᐅᓪᓗᒥᒧᑦ ᑎᑭᓪᓗᒍ</a:t>
            </a:r>
            <a:endParaRPr b="0" lang="en-US" sz="4000" spc="-1" strike="noStrike">
              <a:solidFill>
                <a:srgbClr val="000000"/>
              </a:solidFill>
              <a:latin typeface="Arial"/>
            </a:endParaRPr>
          </a:p>
        </p:txBody>
      </p:sp>
      <p:sp>
        <p:nvSpPr>
          <p:cNvPr id="61" name="PlaceHolder 2"/>
          <p:cNvSpPr>
            <a:spLocks noGrp="1"/>
          </p:cNvSpPr>
          <p:nvPr>
            <p:ph/>
          </p:nvPr>
        </p:nvSpPr>
        <p:spPr>
          <a:xfrm>
            <a:off x="685800" y="2209680"/>
            <a:ext cx="784872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	</a:t>
            </a:r>
            <a:r>
              <a:rPr b="0" lang="id-ID" sz="2400" spc="-1" strike="noStrike">
                <a:solidFill>
                  <a:srgbClr val="000000"/>
                </a:solidFill>
                <a:latin typeface="Pigiarniq"/>
              </a:rPr>
              <a:t>ᓯᓚᐅᑉ ᐊᓯᔾᔨᖅᐸᓪᓕᐊᓂᖓᓄᑦ ᑐᑭᓯᒪᖃᑎᒌᖕᓂᕐᒧᑦ ᐊᖏᖃᑎᒌᒍᑎᐅᔪᑦ ᐊᑎᓕᐅᖅᑕᐅᓚᐅᕐᓯᒪᔪᑦ ᓄᓇᕗᒥ ᐊᒻᒪ ᑲᓇᑕᐅᑉ ᒐᕙᒪᒃᑯᖏᓐᓄᑦ ᐊᒃᑑᕙ 31, 2003-ᖑᑎᓪᓗᒍ, ᐊᒻᒪ ᓇᓗᓇᐃᕐᓯᓯᒪᔪᖅ ᐊᖏᕈᑎᓂᒃ ᐃᖅᑲᓇᐃᔭᖃᑎᒌᒍᒪᓪᓗᑎᒃ ᐃᑯᓪᓚᐅᒥᑎᖁᓪᓗᒍ ᐃᓯᐊᕿᑎᑦᑎᓂᖅ ᐅᕐᓱᐊᓗᖕᓂᓐᖔᖅᑐᓂᑦ ᐊᒻᒪ ᐊᔾᔨᒌᖏᑦᑐᑦ ᑎᒥᐅᔪᑦ, ᓲᕐᓗ ᐋᑎᒃᓂᐊᑦᑯᑦ, ᓴᖅᑭᑕᐅᓯᒪᓕᖅᑐᑦ ᖃᐅᔨᓴᐃᖁᓪᓗᒋᑦ ᐅᑭᐅᖅᑕᖅᑐᕐᒥᐅᑦ ᓯᓚᖓᓂᒃ.</a:t>
            </a:r>
            <a:endParaRPr b="0" lang="en-US" sz="2400" spc="-1" strike="noStrike">
              <a:solidFill>
                <a:srgbClr val="000000"/>
              </a:solidFill>
              <a:latin typeface="Arial"/>
            </a:endParaRPr>
          </a:p>
        </p:txBody>
      </p:sp>
      <p:sp>
        <p:nvSpPr>
          <p:cNvPr id="62" name=""/>
          <p:cNvSpPr/>
          <p:nvPr/>
        </p:nvSpPr>
        <p:spPr>
          <a:xfrm>
            <a:off x="1295280" y="6095880"/>
            <a:ext cx="76201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Pigiarniq"/>
              </a:rPr>
              <a:t>ᐃᓄᐃᑦ ᑕᐱᕇᑦ ᑲᓇᑕᒥ. ᓯᓚᐅᑉ ᐊᓯᔾᔨᖅᐸᓪᓕᐊᓂᖓ. ᑲᔪᓯᔪᒃᑯᑦ ᖃᐅᔨᓴᖅᑕᐅᓂᖓ ᓯᓚᐅᑉ ᐊᓯᕈᖅᐸᓪᓕᐊᓂᖓ</a:t>
            </a:r>
            <a:r>
              <a:rPr b="0" lang="en-US" sz="1200" spc="-1" strike="noStrike">
                <a:solidFill>
                  <a:srgbClr val="000000"/>
                </a:solidFill>
                <a:latin typeface="Pigiarniq"/>
              </a:rPr>
              <a:t> 10 </a:t>
            </a:r>
            <a:r>
              <a:rPr b="0" lang="id-ID" sz="1200" spc="-1" strike="noStrike">
                <a:solidFill>
                  <a:srgbClr val="000000"/>
                </a:solidFill>
                <a:latin typeface="Pigiarniq"/>
              </a:rPr>
              <a:t>ᕖᕝᕗᐊᕆ </a:t>
            </a:r>
            <a:r>
              <a:rPr b="0" lang="en-US" sz="1200" spc="-1" strike="noStrike">
                <a:solidFill>
                  <a:srgbClr val="000000"/>
                </a:solidFill>
                <a:latin typeface="Pigiarniq"/>
              </a:rPr>
              <a:t>2007.</a:t>
            </a:r>
            <a:r>
              <a:rPr b="0" lang="en-US" sz="1400" spc="-1" strike="noStrike">
                <a:solidFill>
                  <a:srgbClr val="000000"/>
                </a:solidFill>
                <a:latin typeface="Arial"/>
              </a:rPr>
              <a:t> &lt;http://www.itk.ca/environment/climate-change-index.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7:29:03Z</dcterms:created>
  <dc:creator>Melissa</dc:creator>
  <dc:description/>
  <dc:language>en-US</dc:language>
  <cp:lastModifiedBy> </cp:lastModifiedBy>
  <dcterms:modified xsi:type="dcterms:W3CDTF">2007-03-19T21:45:47Z</dcterms:modified>
  <cp:revision>34</cp:revision>
  <dc:subject/>
  <dc:title>Environmental Stewardship</dc:title>
</cp:coreProperties>
</file>