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7578-8C61-4DAE-9A0A-E98DCF739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down on th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down on th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53C-CBA5-4C1B-A0BE-7B501837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A28-9D50-46B1-A5EC-BCF08F66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A86-EF16-49F6-8C93-74912E8A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A13-BDFE-4817-B783-1A54BFC7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0B3-BE6D-4B7D-BB50-13C6CCC3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5F6-B2B6-481D-8032-C395B3E1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279-9D1D-4506-A7B2-3F5A6912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ED0-B0FE-4D9C-AE7C-D2281ACE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AA4-6F6C-4F3C-A06B-DD86F6B8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EA3-8BC3-4EB3-BBF8-5099A29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596-66F8-499B-AB77-60B0ED61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AC0-F621-49B5-A5E3-B24B7D64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072A-2ABB-47B6-84C1-2553488B7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ᓄᐃᑦ ᐋᖅᑭᒡᓱᐃᔾᔪᓯᑐᖃᖏᑕ (ᐃᖅᑲᖅᑐᐃᕕᓕᕆᓂᒃᑯᑦ) ᐊᐅᓚᓂ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ᓄᓇᕗᒥ ᐃᖅᑲᖅᑐᐃᕕᓕᕆᓂᕐᒧᑦ ᐋᖅᑭᒡᓯᒪᓂᐅᔪ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ᓄᓇᕗᑦ ᐃᖅᑲᖅᑐᐃᕕᖓᑦ - ᑲᓇᑕᓕᒫᒥ ᑕᑯᓐᓇᕐᓗᒍ ᑖᓐᓇᑐᐊᑦᑎᐊᖑᓪᓗᓂᓕ ᐃᖅᑲᖅᑐᐃᕕᒋᔭᐅᖕᒪᑦ ᓄᓇᕗ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ᐱᖃᓯᐅᔾᔨᓯᒪᓪᓗᓂ ᐃᖏᕐᕋᓂᖏᓐᓂᒃ ᓄᓇᕗᑦ ᓴᖅᑭᑕᐅᓚᐅᓂᖓᒍ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ᐃᑦ ᐃᓚᐅᑎᑕᐅᓗᑎᒃ ᐃᓘᓐᓇᖏᓐᓂ ᐃᓱᒪᓕᐅᕈᑕᐅᔪᓂ ᐃᓘᓐᓇᖏᓐᓂ ᐱᔾᔪᑕᐅᔪ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000" spc="-1" strike="noStrike">
                <a:solidFill>
                  <a:srgbClr val="000000"/>
                </a:solidFill>
                <a:latin typeface="Pigiarniq"/>
              </a:rPr>
              <a:t>ᓄᓇᕗᒥ ᐃᖅᑲᖅᑐᐃᕕᒃ: ᐱᔾᒧᑎᖃᖅᑐᖅ ᓄᓇᕗᒥ ᐃᖅᑲᖅᑐᐃᕕᓕᕆᓂᕐᒧᑦ </a:t>
            </a:r>
            <a:r>
              <a:rPr b="0" i="1" lang="en-US" sz="1000" spc="-1" strike="noStrike">
                <a:solidFill>
                  <a:srgbClr val="000000"/>
                </a:solidFill>
                <a:latin typeface="Pigiarniq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&lt;http://www.nucj.ca/unifiedcourt.ht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ᓄᓇᕗᒥ ᐃᖅᑲᖅᑐᐃᕕ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ᑲᓇᑕᒥ ᓯᕗᓪᓕᖅᐹᑦᑎᐊᖑᔪᖅ ᐊᒻᒪ ᑖᓐᓇᑐᐊᑦᑎᐊᖑᔪᖅ ᐊᓯᖓᒍᑦ ᖁᕝᕙᓯᖕᓂᖃᖏᑦᑐᖅ ᐃᖅᑲᖅᑐᐃᕕᐅᔪ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ᑭᖑᕝᕕᕐᓯᓚᐅᕐᓯᒪᔪᖅ ᐋᖅᑭᒡᓯᒪᓂᖓᓂᒃ ᓄᓇᑦᓯᐊᒥ ᐃᖅᑲᖅᑐᐃᕕᖕᒥ ᐊᒻᒪ ᐃᖅᑲᖅᑐᐃᕕᒡᔪᐊᕐᒥ ᐊᑐᖅᑕᐅᕙᒃᑐᒥ ᑲᓇᑕᒥᐅᑕᐅᔪᓄ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ᓴᖅᑭᑕᐅᓪᓗᓂ ᐊᐃᕐᕆᓕ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1,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ᕗᓕᒫᒧᑦ ᐃᖅᑲᖅᑐᐃᕕᐅᓪᓗᓂ ᐱᔨᑦᓯᖅᑐᑦ ᐃᖅᑲᖅᑐᐃᕕᒃᑯ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ᐅᓪᓚᖃᑦᑕᖅᑐᑦ 85%-ᖏᓐᓄᑦ ᓄᓇᓕᖕᓄᑦ ᓄᓇᕗ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ᐅᓪᓚᖃᑦᑕᖏᑦᑐᑦ ᓄᓇᓕᖕᓄᑦ ᒥᑭᓐᓂᖅᓴᓄᑦ ᐸᓕᓯᖃᖏᑦᑐᓄᑦ ᐱᕋᔭᒃᑐᑦ ᐅᖃᐅᑕᐅᓗᐊᖃᑦᑕᖏᓐᓂᖏᓐᓄ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ᑕᐅᓯᕐᒥᒃ ᐊᓯᐊᒍᑦ ᖁᕝᕙᓯᖕᓂᖃᖏᑦᑐᖅ ᐃᖅᑲᖅᑐᐃᕕᒃ ᐱᖓᓱᓂᒃ ᐃᖅᑲᖅᑐᐃᕕᒃᑯᑦ ᐊᖓᔪᖅᑳᖃᕐᖢᑎᒃ ᐃᖃᓗᖕ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ᑖᒃᑯᐊ ᑭᐅᓴᕋᐃᓐᓂᖅᓴᐅᖁᒧᑦ ᐋᖅᑭᒡᑕᐅᓯᒪᔪᑦ ᐊᔾᔨᐅᖏᑦᑐᓂᒃ ᑭᓐᖒᒪᒡᖠᕐᓂᖏᓐᓄᑦ ᐊᒻᒪ ᐃᓕᖅᑯᓯᖃᕐᓂᖏᓐᓄᑦ ᐅᓄᕐᓂᖅᓴᐅᔪᑦ ᓄᓇᕗᒥ ᐃᓄᐃᑦ ᓄᓇᖃᖅᑐ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Pigiarniq"/>
              </a:rPr>
              <a:t>ᓄᓇᕗᒥ ᐃᖅᑲᖅᑐᐃᕕᒃ, ᔮᓐᓄᐊᕆ</a:t>
            </a: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 29, 2007. &lt;http://www.nucj.ca/index.ht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ᓕᖕᓄᑦ ᐊᐅᓪᓚᖃᑦᑕᕐᖢᑎᒃ ᐱᓇᓱᐊᕈᓯᑦ ᐊᕐᕕᓂᓕᑕᒫᑦ ᐃᓚᖏᑦ ᐊᕐᕌᒎᒃ ᒪᕐᕈᑕᒫᓐ ᐅᐸᒡᑕᐅᕙᒡᖢᑎ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ᖅᑲᖅᑐᐃᖃᑦᑕᖅᑐᑦ ᓄᓇᓕᖕᓂ ᐱᓐᖑᐊᕐᕕᖏᓐᓂ, ᐃᓕᓐᓂᐊᕐᕕᑦ ᐱᓐᖑᐊᕐᕕᖏᓐᓂ ᐊᒻᒪ ᐊᓯᖏᓐᓂ ᑲᑎᒪᕕᐅᔪ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ᓐᓇᐃᑦ ᐊᒻᒪ ᐃᖅᑲᖅᑐᐃᔨᕋᓛᖑᔪᑦ ᐃᒃᓯᕙᖃᑎᖃᖃᑦᑕᖅᑐᑦ ᐃᖅᑲᖅᑐᐃᔨᒥᒃ ᐃᖅᑲᖅᑐᐃᑎᓪᓗᒋᑦ, ᐊᒻᒪ ᐅᖃᓪᓚᒍᓐᓇᖅᑎᑕᐅᓪᓗᑎᒃ ᑖᑦᓱᒧᖓ ᐃᖅᑲᖅᑐᖅᑕᐅᔪᒧᑦ ᓯᕗᕐᖓᒍᑦ ᓱᒋᐊᖅᑕᐅᔾᔪᑎᒋᖁᔭᐅᔪᑦ ᓴᖅᑭᑕᐅᓚᐅᖏᓐᓂᖏᓐᓂ ᐊᒻᒪ ᓱᒋᐊᖅᑕᐅᓚᐅᖏᓐᓂᖓ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ᑐᖅᑕᐅᓇᓱᓚᐅᕐᓯᒪᔪᖅ ᐱᐅᓯᒋᐊᖅᑕᐅᖁᓪᓗᒋᑦ ᐱᔨᑦᓯᕐᓂᐅᔪᑦ ᓄᓇᕗᒥᐅᑕᐅᔪᓄᑦ ᐃᖅᑲᖅᑐᐃᕕᒃ ᐅᐸᒐᕐᓂᕐᓂᖅᓴᐅᓕᖁᓪᓗᒍ ᐊᒻᒪ ᐱᔭᕐᓂᕐᓂᖅᓴᐅᓕᖅᑎᓪᓗᒋᑦ ᐃᖅᑲᖅᑐᐃᕕᖕᒥ ᒪᓕᒐᖏᑦ ᐊᐅᓚᓂᖏᓐᓄ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ᓯᕗᕐᖓᒍᑦ ᑖᔅᓱᒪ ᐱᑕᖃᓚᐅᕐᓯᒪᔪᑦ ᓄᓇᕗᒥ ᐃᖅᑲᖅᑐᐃᕕᒃ ᐊᒻᒪ ᓄᓇᑦᓯᐊᕐᒥ ᐃᖅᑲᖅᑐᐃᕕᒡᔪᐊ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ᕗᒥ ᐃᖅᑲᖅᑐᐃᕕᒃ. ᔮᓐᓄᐊᕆ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29, 2007. &lt;http://www.nucj.ca/index.ht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ᓄᐃᑦ ᖃᐅᔨᒪᔭᑐᖃᖏᑦ ᐊᒻᒪ ᓄᓇᓕᖕᓂ ᐋᖅᑭᒡᓱᐃᔾᔪᓯᖅ ᐃᖅᑲᖅᑐᐃᕕᒃᑯ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ᓄᐃᑦ ᖃᐅᔨᒪᔭᑐᖃᖏᑦ ᑐᓐᖓᕕᒋᔭᐅᕗᖅ ᑖᒃᑯᓄᖓ ᐱᓕᕆᐊᓄ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ᑲᔪᖅᑐᐃᖁᓪᓗᖏᑦ ᓄᓇᓕᐅᔪᓂᒃ ᐱᓕᕆᖃᑕᐅᓂᖅᓴᐅᖁᓪᓗᒋᑦ ᑲᒪᒋᔭᖃᕐᓂᖅᓴᐅᓗᑎᒃ ᐱᕋᔭᒃᐸᒃᑐᓂᒃ ᐊᒻᒪ ᐱᕋᔭᒃᑕᐅᕙᒃᑐᓂ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ᐱᓕᕆᐊᑦ ᐱᖃᓯᐅᔾᔨᓯᒪᔪᑦ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ᓕᖕᓂ ᐃᖅᑲᖅᑐᐃᔨᕋᓛᑦ ᑲᑎᒪᔨᕋᓛᖏ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ᒪᒥᓴᐃ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ᒥ ᐊᐅᓪᓚᕐᓯᒪᑎᑦᓯᖃᑦᑕᕐᓂᕐᒧᑦ ᐱᓕᕆᐊ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ᑎᑎᕋᖅᑕᐅᓯᒪᔪᑦ ᐱᕋᔭᒃᐸᒃᑐᑦ ᑎᑎᖅᕋᖅᑕᐅᕕᖓᒍᑦ. ‘ᐋᖅᑭᒡᓱᐃᓂᖅ ᐃᓄᖕᓂᒃ ᑎᒍᔭᐅᖅᑲᔪᓂᒃ ᓄᓇᕗᒥ, ᑲᓇᑕᒥ ᕖᕝᕗᐊᕆ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  &lt;http://www.blackwell-synergy.com/doi/abs/10.1111/j.1468-2311.2006.00414.x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ᓄᐃᑦ ᖃᐅᔨᒪᔭᑐᖃᖏᑎᒍᑦ ᐃᓅᓰᑦ: ᐅᓪᓗᒥᓯᐅᑎᑦ ᒪᒥᓴᐃᓂᐅᔪ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ᐃᑦ ᒪᒥᓴᕐᓂᖏᓐᓄᑦ - ᐅᐸᒍᑎᔭᕌᖓᑦᑕ ᐅᕙᑦᑎᓐᓄᑦ ᐅᖃᖃᑎᖃᖅᐸᒃᑐᑦ, ᑭᓱᓂᒃ ᐃᓕᑦᑐᓐᓇᕐᒪᖔᑦᑕ, ᖃᓄᐃᓕᔪᓐᓇᕐᒪᖔᑦ ᐃᓄᓯᑦᑎᓐᓂ, ᖃᓄᐃᓕᒐᔭᕐᓂᕐᒪᖔᑦ ᕿᒪᐃᑐᐃᓐᓇᕐᓂᕈᑦᑕ ᐱᕋᔭᒍᑎᒋᓚᐅᖅᑕᑦᑎᓐᓂᑦ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ᖏᕐᕋᓂᐅᔪᖅ ᑐᓐᖓᕕᖃᖅᑐᖅ ᑖᒃᑯᐊ ᑖᑦᓱᒪ ᐃᓅᑉ ᐱᔪᒪᓂᖓᓄᑦ ᐊᒻᒪ ᐊᑐᐃᓐᓇᐅᓕᕐᓂᖓᓄᑦ ᐊᓯᔾᔨᕐᓯᖁᓪᓗᒍ ᐊᒻᒪ ᐋᖅᑭᒡᓯᒋᐊᖁᓪᓗᒍ ᐊᑲᐅᓐᖏᓕᐅᕈᑎᖏᓐᓂ ᐃᓅᓯᖏᓐᓂ ᐊᖅᑯᑎᒋᓪᓗᒍ ᓇᖕᒥᓂᖅ ᕿᒥᕐᕈᓇᖕᓂᖅ ᐊᒻᒪ ᐃᒻᒥᓂᒃ ᖃᐅᔨᒪᓕᕋᓱᐊᕐᓂ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ᑎᑎᕋᖅᑕᐅᓯᒪᔪᑦ ᐱᕋᔭᒃᐸᒃᑐᑦ ᑎᑎᖅᕋᖅᑕᐅᕕᖓᒍᑦ. ‘ᐋᖅᑭᒡᓱᐃᓂᖅ ᐃᓄᖕᓂᒃ ᑎᒍᔭᐅᖅᑲᔪᓂᒃ ᓄᓇᕗᒥ, ᑲᓇᑕᒥ ᕖᕝᕗᐊ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  &lt;http://www.blackwell-synergy.com/doi/abs/10.1111/j.1468-2311.2006.00414.x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ᓄᓇᒥ ᐊᐅᓪᓚᐅᔾᔨᓯᒪᖃᑦᑕᕐᓂᕐᒧᑦ ᐱᓕᕆᐊ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ᓐᓇᐃᑦ ᐊᒻᒪ ᐱᕋᔭᒃᓯᒪᔪᑦ ᐊᐅᓪᓚᐅᔾᔭᐅᓪᓗᑎᒃ ᐊᖑᓇᓱᒋᐊᕐᖢᑎᒃ, ᒥᑭᒋᐊᕐᓂᐊᕐᖢᑎᒃ ᐊᒻᒪ ᓄᓇᓕᕋᓛᖑᔭᖅᑐᕐᓯᒪᓪᓗᑎᒃ ᐱᕙᒃᑐᑦ ᐃᓄᐃᑦ ᐃᓕᖅᑯᓯᖏᓐᓂᒃ ᐊᑐᕆᐊᖅᑐᕐᖢᑎ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ᑐᖅᑕᐅᓇᓱᐊᖅᑐᑦ ᑖᓐᓇ ᐱᕋᔭᒃᓯᒪᔪᖅ ᖃᐅᔨᑎᑕᐅᓇᓱᐊᕐᖢᓂ ᓇᑭᓐᖔᕐᓯᒪᖕᒪᖔᑦ, ᓄᓇᒧᑦ ᐊᑦᑕᑎᒃᑲᓐᓂᖁᓪᓗᒍ ᐊᒻᒪ ᐊᔪᕈᓐᓃᒃᑲᓐᓂᖁᓪᓗᒍ ᐃᓄᐃᑦ ᐊᖑᓇᓱᒍᓯᖏᓐᓂ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ᑎᑎᕋᖅᑕᐅᓯᒪᔪᑦ ᐱᕋᔭᒃᐸᒃᑐᑦ ᑎᑎᖅᕋᖅᑕᐅᕕᖓᒍᑦ. ‘ᐋᖅᑭᒡᓱᐃᓂᖅ ᐃᓄᖕᓂᒃ ᑎᒍᔭᐅᖅᑲᔪᓂᒃ ᓄᓇᕗᒥ, ᑲᓇᑕᒥ ᕖᕝᕗᐊ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  &lt;http://www.blackwell-synergy.com/doi/abs/10.1111/j.1468-2311.2006.00414.x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ᐋᖅᑭᒡᓱᕐᓯᒪᓂᖏᑦ ᐃᓄᐃᑦ ᒪᒥᓴᐃᓂᖏ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ᐃᒻᒥᓂᒃ ᐊᑐᐃᓐᓇᐅᓕᕈ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ᑭᒃᑯᑐᐃᓐᓇᐃᑦ ᐃᖏᕐᕋᕙᓪᓕᐊᓂᖃᕐᒪᑕ ᐊᔾᔨᒌᖏᑦᑐᒃᑯᑦ ᓇᖕᒥᓂ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ᐃᓗᐃᑦᑑᓇᖅᑐᒃᑯᑦ ᐋᖅᑭᒡᓱᐃᓂᖅ ᐃᓱᒪᒃᑯᑦ ᑎᒥᒃᑯᓪ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ᐋᓐᓂᐊᖓ ᐱᓕᕆᔭᐅᓗᓂ ᐃᓅᓯᖓ ᐃᒡᓗᒌᑦᑎᐊᖁᓪᓗ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ᐅᓂᒃᑳᖃᕐᓂ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ᒪᒥᓴᕐᓂᐅᖃᑦᑕᕐᒪᑦ ᐅᓂᒃᑳᖃᕐᓂᒃᑯᑦ ᐊᑐᓚᐅᕐᓯᒪᔭᒥ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ᐊᓯᔾᔨᕈᓐᓇᕐᓂ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ᐊᑐᓂ ᒪᒥᓴᐃᔨᑦ ᐅᕝᕙᓗᓐᓂᑦ ᐃᓐᓇᑐᖃᐃᑦ ᐊᑐᖃᑦᑕᖅᑐᑦ ᐊᑲᐅᓚᕆᔭᒥᖕᓂ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ᐃᕐᖐᓐᓇᖅ ᐱᓕᕆᐊᖃᕐᓂ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ᐃᓄᐃᑦ ᒪᒥᓴᐃᔨᐅᔪᑦ ᐃᓱᒪᖃᖅᐳᑦ ᐃᕐᖐᓐᓇᖅ ᐊᑲᐅᓐᖏᓕᕈᑕᐅᔪᖅ ᑲᒪᒋᔭᐅᑦᓴᐅᑎᒋᖁᓪᓗᒍ ᐃᒃᓯᓐᓇᖅᑕᐅᓯᒪᖏᓪᓗᑎ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ᓇᒡᓗᒍᓱᖕᓂᖅ ᐊᒻᒪ ᓂᑲᒍᓱᖕᓂ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ᒪᒥᓴᐃᔨᐅᔪᑦ ᐃᓅᖃᑎᒥᖕᓂᒃ ᓂᑲᒍᓱᒡᖢᑎᒃ ᐱᓂᐊᕐᓂᖃᖅᐸᒃᐳ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Pigiarniq"/>
              </a:rPr>
              <a:t>ᐃᓄᐃᑦ ᐃᓕᖅᑯᓯᖓᓐᓄᑦ ᖃᐅᔨᒪᓂᖓ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ᒪᒥᓴᐃᔨᐅᔪᑦ ᐊᒻᒪ ᐃᓐᓇᐃᑦ ᐅᒃᐱᕈᓱᒃᐳᑦ ᐃᓕᖅᑯᓯᐅᑉ ᐊᓯᐅᔨᔭᐅᓯᒪᓂᖓᓄᑦ ᐅᓪᓗᒥᐅᓕᖅᑐᖅ ᐃᓅᓯᑦᑎᓐᓂ ᐊᑲᐅᓐᖏᓕᐅᕈᑎᖃᖅᐳᒍᑦ ᐊᒻᒪ ᑭᓯᐊᓂ ᒪᒥᑦᑐᓐᓇᕋᑦᑕ ᑭᓯᐊᓂ ᓴᓇᓗᑕ ᐃᓕᖅᑯᓯᑦᑎᓐᓂ ᐊᓐᓂᕆᔭᑦᑎᓐᓂᒃ ᐊᒻᒪ ᐱᓕᕆᔪᓐᓇᖅᑕᐅᔭᕆᐊᖃᖅᑐᓂ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ᑎᑎᕋᖅᑕᐅᓯᒪᔪᑦ ᐱᕋᔭᒃᐸᒃᑐᑦ ᑎᑎᖅᕋᖅᑕᐅᕕᖓᒍᑦ. ‘ᐋᖅᑭᒡᓱᐃᓂᖅ ᐃᓄᖕᓂᒃ ᑎᒍᔭᐅᖅᑲᔪᓂᒃ ᓄᓇᕗᒥ, ᑲᓇᑕᒥ ᕖᕝᕗᐊᕆ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.  &lt;http://www.blackwell-synergy.com/doi/abs/10.1111/j.1468-2311.2006.00414.x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ᐃᖅᑲᓇᐃᔭᖅᑕᐅᓂᑯᓂᑦ ᑕᐃᓯᕕᐅᓯᒪᔪ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ᐱᓕᕆᖃᑎᖃᕐᓂᖅ ᐱᕋᔭᒃᓯᒪᔪᓂᒃ”. ᐊᐱᕐᓱᕐᓂᖅ ᐃᓄᐃᑦ ᐃᓐᓇᖏᓐᓂᒃ: ᓇᓴᐅᑎᖓ 2 - ᐃᓱᒪᒋᔭᐅᔪᑦ ᐃᓕᖅᑯᓯᑐᖃᒃᑯᑦᒪᓕᒐᐅᔪᑦ, ᐊᐅᐱᓛᕐᔪᒃ ᒥᐅᕆᐊᓄ ᐊᒻᒪᐊᓯᖏᑦ ᔨᐅᕆᒃ ᐆᔅᑕᓐ, ᕕᑐᕆᒃ ᓚᐅᒐᓐ ᐊᒻᒪ ᐅᐃᒻ ᕋᓯᖕ, ᓄᓇᕗᑦ ᓯᓚᑦᑐᓴᕐᕕᒃ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http://www.nac.nu.ca/publication/vol2/pdf/chapter3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ᐱᒋᐊᕐᓂᖓ” ᐊᐱᕐᓱᕐᓂᖅ ᐃᓄᐃᑦ ᐃᓐᓇᖏᓐᓂᒃ: ᓇᓴᐅᑎᖓ 2 - ᐃᓱᒪᒋᔭᐅᔪᑦ ᐃᓕᖅᑯᓯᑐᖃᒃᑯᑦᒪᓕᒐᐅᔪᑦ, ᐊᐅᐱᓛᕐᔪᒃ ᒥᐅᕆᐊᓄ ᐊᒻᒪᐊᓯᖏᑦ ᔨᐅᕆᒃ ᐆᔅᑕᓐ, ᕕᑐᕆᒃ ᓚᐅᒐᓐ ᐊᒻᒪ ᐅᐃᒻ ᕋᓯᖕ, ᓄᓇᕗᑦ ᓯᓚᑦᑐᓴᕐᕕᒃ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&lt;http://www.nac.nu.ca/publication/vol2/introduction.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ᓯᕗᓕᖅᑎᑦ, ᐃᓐᓇᐃ ᐊᒻᒪ ᐊᖓᒃᑯᐃᑦ”. ᐊᐱᕐᓱᕐᓂᖅ ᐃᓄᐃᑦ ᐃᓐᓇᖏᓐᓂᒃ: ᓇᓴᐅᑎᖓ 2 - ᐃᓱᒪᒋᔭᐅᔪᑦ ᐃᓕᖅᑯᓯᑐᖃᒃᑯᑦᒪᓕᒐᐅᔪᑦ, ᐊᐅᐱᓛᕐᔪᒃ ᒥᐅᕆᐊᓄ ᐊᒻᒪᐊᓯᖏᑦ ᔨᐅᕆᒃ ᐆᔅᑕᓐ, ᕕᑐᕆᒃ ᓚᐅᒐᓐ ᐊᒻᒪ ᐅᐃᒻ ᕋᓯᖕ, ᓄᓇᕗᑦ ᓯᓚᑦᑐᓴᕐᕕᒃ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&lt;http://www.nac.nu.ca/publication/vol2/pdf/chapter7.pdf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ᐃᓄᐊᕐᓯᓂᕐᒧᑦ” ᐊᐱᕐᓱᕐᓂᖅ ᐃᓄᐃᑦ ᐃᓐᓇᖏᓐᓂᒃ: ᓇᓴᐅᑎᖓ 2 - ᐃᓱᒪᒋᔭᐅᔪᑦ ᐃᓕᖅᑯᓯᑐᖃᒃᑯᑦᒪᓕᒐᐅᔪᑦ, ᐊᐅᐱᓛᕐᔪᒃ ᒥᐅᕆᐊᓄ ᐊᒻᒪᐊᓯᖏᑦ ᔨᐅᕆᒃ ᐆᔅᑕᓐ, ᕕᑐᕆᒃ ᓚᐅᒐᓐ ᐊᒻᒪ ᐅᐃᒻ ᕋᓯᖕ, ᓄᓇᕗᑦ ᓯᓚᑦᑐᓴᕐᕕᒃ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&lt;http://www.nac.nu.ca/publication/vol2/pdf/chapter9.pdf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”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ᑎᕆᒍᓲᓰᑦ ᐊᒻᒪ ᒪᓕᒐᐃᑦ” ᐊᐱᕐᓱᕐᓂᖅ ᐃᓄᐃᑦ ᐃᓐᓇᖏᓐᓂᒃ: ᓇᓴᐅᑎᖓ 2 - ᐃᓱᒪᒋᔭᐅᔪᑦ ᐃᓕᖅᑯᓯᑐᖃᒃᑯᑦᒪᓕᒐᐅᔪᑦ, ᐊᐅᐱᓛᕐᔪᒃ ᒥᐅᕆᐊᓄ ᐊᒻᒪᐊᓯᖏᑦ ᔨᐅᕆᒃ ᐆᔅᑕᓐ, ᕕᑐᕆᒃ ᓚᐅᒐᓐ ᐊᒻᒪ ᐅᐃᒻ ᕋᓯᖕ, ᓄᓇᕗᑦ ᓯᓚᑦᑐᓴᕐᕕᒃ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&lt;http://www.nac.nu.ca/publication/vol2/pdf/chapter1.pdf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ᖅᑲᓇᐃᔭᖅᑕᐅᓂᑯᓂᑦ ᑕᐃᓯᕕᐅᓯᒪᔪᑦ (ᑲᔪᓯᔪ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ᐱᓕᕆᕕᖓᑦ ᐃᖅᑲᖅᑐᐃᕕᓕᕆᔨᒃᑯᑦ ᑲᓇᑕᒥ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i="1" lang="id-ID" sz="1600" spc="-1" strike="noStrike">
                <a:solidFill>
                  <a:srgbClr val="000000"/>
                </a:solidFill>
                <a:latin typeface="Pigiarniq"/>
              </a:rPr>
              <a:t>ᓄᓇᕗᒥ ᒪᓕᒐᕐᓂᐊᖅᑐᓕᕆᓂᕐᒧᑦ ᖃᐅᔨᓴᕈᑎᓂᑦ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&lt;http://canada.justice.gc.ca/en/ps/rs/rep/2003/rr03lars-14/rr03 14_02_2.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ᐱᓕᕆᕕᖓᑦ ᐃᖅᑲᖅᑐᐃᕕᓕᕆᔨᒃᑯᑦ ᑲᓇᑕᒥ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i="1" lang="id-ID" sz="1600" spc="-1" strike="noStrike">
                <a:solidFill>
                  <a:srgbClr val="000000"/>
                </a:solidFill>
                <a:latin typeface="Pigiarniq"/>
              </a:rPr>
              <a:t>ᕿᒥᕐᕈᓇᒃᑕᐅᓂᖏᑦ ᓄᓇᕗᒥ ᓄᓇᓕᖕᓂ ᐃᖅᑲᖅᑐᐃᔨᕋᓛᓄᑦ ᐱᓕᕆᔾᔪᓯᖅ</a:t>
            </a:r>
            <a:r>
              <a:rPr b="0" i="1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&lt;http://www.canada.justice.gc.ca/en/ps/rs/rep/2005/rr05-7/p0.html&gt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ᐱᓕᕆᕕᖓᑦ ᐃᖅᑲᖅᑐᐃᕕᓕᕆᔨᒃᑯᑦ ᑲᓇᑕᒥ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i="1" lang="id-ID" sz="1600" spc="-1" strike="noStrike">
                <a:solidFill>
                  <a:srgbClr val="000000"/>
                </a:solidFill>
                <a:latin typeface="Pigiarniq"/>
              </a:rPr>
              <a:t>ᓄᓇᕗᒥ ᒪᓕᖓᕐᓂᐊᕐᓂᒧᑦ ᐱᔨᑦᓯᕈᑕᐅᔪᑦ ᖃᐅᔨᓴᖅᑕᐅᓂᖏᑦ</a:t>
            </a:r>
            <a:r>
              <a:rPr b="0" i="1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&lt;http://www.justice.gc.ca/en/ps/rs/rep/2003/rr03lars-14/rr03-14_01.html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ᓄᓇᕗᒥ ᐃᖅᑲᖅᑐᐃᕕᒃ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i="1" lang="id-ID" sz="1600" spc="-1" strike="noStrike">
                <a:solidFill>
                  <a:srgbClr val="000000"/>
                </a:solidFill>
                <a:latin typeface="Pigiarniq"/>
              </a:rPr>
              <a:t>ᓄᓇᕗᒥ ᐃᖅᑲᖅᑐᐃᕕᐅᑉ ᒥᒃᓵᓄ ᑦ 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&lt;http://www.nucj.ca/unifiedcourt.htm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ᕼᐅᑦ ᓄᐊᓯᒪᔭᐅᔪᑦ ᐱᕋᔭᒃᐸᒃᑐᑦ ᐃᖅᑲᖅᑐᐃᕕᓕᕆᔨᒃᑯᓐᓂᑦ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</a:t>
            </a:r>
            <a:r>
              <a:rPr b="0" i="1" lang="en-US" sz="1600" spc="-1" strike="noStrike">
                <a:solidFill>
                  <a:srgbClr val="000000"/>
                </a:solidFill>
                <a:latin typeface="Pigiarniq"/>
              </a:rPr>
              <a:t>‘</a:t>
            </a:r>
            <a:r>
              <a:rPr b="0" i="1" lang="id-ID" sz="1600" spc="-1" strike="noStrike">
                <a:solidFill>
                  <a:srgbClr val="000000"/>
                </a:solidFill>
                <a:latin typeface="Pigiarniq"/>
              </a:rPr>
              <a:t>ᐋᖅᑭᒡᓱᐃᓂᖅ ᐃᓄᖕᓂᒃ ᐱᕋᔭᒃᓯᒪᔪᓂᒃ ᓄᓇᕗᑦ ᑲᓇᑕᒥ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. &lt;http://www.blackwell-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synergy.com/doi/abs/10.1111/j.1468-2311.2006.00414.x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ᓄᐃᑦ ᐋᖅᑭᒡᓱᐃᔾᔪᓯᑐᖃᖏ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ᐃᓄᐃᑦ ᓯᕗᓕᖅᑎᑦ (ᐊᖓᔪᖅᑳᑦ) ᐊᒻᒪ ᐃᓐᓇᐃᑦ ᐃᒻᒥᖕᓂᒃ ᑕᑯᓐᓇᓚᐅᕐᓯᒪᖏᑦᑐᑦ ᑭᒡᒐᖅᑐᐃᔨᐅᓂᖏᓐᓂᒃ ᐱᖁᔭᓄᑦ ᐊᒻᒪ ᐋᖅᑭᒡᓯᒪᓂᕐᒧᑦ ᐅᕝᕙᓘᓐᓃᑦ ᐃᓅᓯᕐᒧᑦ ᐋᖅᑭᒡᓯᒪᑎᑦᑎᔨᐅᓂᕐᒧ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ᓯᕗᓕᖅᑎᑦ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ᐊᑐᓂ ᓄᓇᓕᕋᓛᑦ ᐊᑕᐅᓯᕐᒥᒃ ᓯᕗᓕᖅᑎᖃᖅᐸᓚᐅᖅᑐ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ᐊᑐᓂᓗ ᓯᕗᓕᖅᑎᐅᔪᑦ ᓂᕈᐊᖃᑦᑕᕐᖢᑎᒃ ᓄᑲᕐᖠᕐᒥᒃ ᑭᖑᕝᕕᕐᓯᔪᒫᖅᑐᒥᒃ ᐃᓅᔪᓐᓃᕐᓂᖅᐸ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ᐃᓐᓇᐃᑦ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ᐃᓐᓇᐃᑦ ᓇᓕᐊᑐᐃᓐᓇᐃᑦ ᐃᓅᓯᓕᕆᔨᐅᕙᓚᐅᖅᑐ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ᑕᒪᕐᒥᒃ ᐊᖑᑎᑦ ᐊᕐᓇᐃᓪᓗ ᑕᑯᓐᓇᖅᑕᐅᕙᓚᐅᖅᑐᑦ ᓯᓚᑐᔫᓂᖏᓐᓂᒃ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igiarniq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ᒻᒥᖕᓄᑦ ᑕᑎᒌᖃᑦᑕᐅᑎᓂᖏ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ᑐᓂ ᑭᓇᒃᑯᑐᐃᓐᓇᐃᑦ ᐃᑲᔪᖃᑕᐅᓪᓗᑎᒃ ᐊᐅᓚᑕᐅᓂᖓᓄᑦ ᓄᓇᓕᐅᔪ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ᑭᓇᑐᐃᓐᓇᖅ ᐲᑕᖃᕈᓐᓃᕌᖓᑦ, ᐃᓘᓐᓇᖏᑦ ᐅᒡᒍᐊᖃᑦᑕᓚᐅᖅᑐᑦ ᐊᓯᐅᔨᒐᒥᒃ ᐱᔨᑦᓯᕈᑎᒋᓚᐅᖅᑕᖓᓂᒃ ᑕᐃᒃᓱᒪ ᐃᓅ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ᑐᓂᑯᓘᔭᖅ ᒪᓕᒐᓕᐅᕐᓯᒪᓚᐅᖏᑦᑐᑦ: ᐃᓘᓐᓇᖏᑦ ᐅᖃᐅᑕᐅᖃᑦᑕᕐᖢᑎᒃ ᐃᓅᓯᓕᕆᔭᐅᑎᓪᓗᒋᑦ ᐃᓱᒪᖏᓐᓂᓐᖔᖅᑐᓂᒃ ᐃᓐᓇᐅᔪ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ᐃᑦ ᐱᐅᓯᖏᑎᒍᑦ: ᐋᖅᑭᒡᓱᐃᔾᔪᓯᖅ ᐊᒻᒪ ᒪᒥᓴᕐᓂ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ᑕᐃᒪᓕ ᐊᑲᐅᖏᑦᑐᒥᒃ/ᑕᒻᒪᖅᑐᒥᒃ  ᐱᔪᖃᓚᐅᖅᑎᓪᓗᒍ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ᓐᓇᐃᑦ ᐅᖃᖃᑎᖃᓕᕐᖢᑎᒃ ᑖᑦᓱᒥᖓ ᐃᓄᖕᒥᒃ ᐊᒻᒪ ᐃᒃᐱᒍᓱᒃᑎᑕᐅᓪᓗᓂ ᓇᒡᓕᒋᔭᐅᓂᖓᓂ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ᑖᓐᓇ ᐃᓄᒃ ᓱᓕ ᐱᑦᑎᐊᓐᖐᓐᓇᕈᓂ, ᐃᓐᓇᕐᓄᑦ ᐅᖃᕐᕕᐅᒃᑲᓐᓂᓕᕋᔭᖅᑐᖅ.  ᑕᕝᕙᓂ ᐱᕐᔪᐊᖑᓂᖅᓴᐅᔪᒃᑯᑦ ᐅᖃᐅᔾᔭᐅᓗᓂ ᐊᒻᒪ ᖃᓄᐃᑕᐅᔪᓐᓇᕐᓂᖏᑦ ᓇᓗᓇᐃᖅᑕᐅᓪᓗᑎ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ᑕᐃᒪᓕ ᑖᑦᓱᒪ ᓱᓕ ᐱᐅᓯᕆᔭᖓ ᓱᕐᕋᖏᑉᐸᑦ, ᐃᒃᐱᒍᓱᒃᐸᑕᓗ ᑖᓐᓇ ᐅᖃᐅᔾᔭᐅᓚᐅᖅᑎᓪᓗᒍ ᓯᕗᕐᖓᒍᑦ ᐊᒻᒪ ᓈᒻᒪᒋᔭᐅᓕᕐᓗᓂ ᐊᖏᕐᓯᔭᕆᐊᖃᓕᕐᓂᖓᓂᒃ ᐱᓂᐊᕐᓂᖏᓐᓄᑦ.  ᑖᒃᑯᐊ ᓄᓇᖅᑲᑎᖏᑦ ᐅᖃᐅᑎᔭᐅᔪᓐᓇᕐᓯᒐᔭᖅᑐᑦ ᐊᑭᓂᐊᕈᓐᓇᕐᓯᓂᖏᓐᓂᑦ ᑖᑦᓱᒧᖓ ᐃᓄᖕᒧᑦ.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ᐱᕋᔭᒃᑲᓐᓂᖃᑦᑕᖅᑐᑦ ᐊᒻᒪ ᑲᑉᐱᐊᓇᖅᑐᑦ ᐱᕋᔭᒃᐸᒃᑐ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ᓛᓐᓂᒃᑯᑦ ᐃᒪᐃᑕᐅᕙᓚᐅᖅᑐᑦ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ᑖᓐᓇ ᐱᕋᔭᒃᓯᒪᔪᖅ ᐃᓄᑑᓪᓗᓂ ᐃᓅᑎᑕᐅᓪᓗᓂ ᓄᓇᓕᖕᓄᑦ ᐅᐱᒋᔭᐅᓕᖅᑎᓐᓇᓱᐊᕐᖢ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ᐊᕐᓯᒪᔪᑦ ᑐᖁᑕᐅᕙᓚᐅᖅᑐᑦ ᑭᓯᐊᓂ ᒪᒥᐊᓐᓂᕐᒥᖕᓂᒃ ᓴᖅᑭᔮᖅᑎᑦᑎᖏᑦᑕᕌᖓᑕ ᐅᕝᕙᓘᓐᓃᑦ ᐅᒃᐱᕈᓱᒃᑯᑎᒃ ᐃᓄᐊᒃᑲᓐᓂᕐᓂᐊᕐᓂᖓᓂᒃ.  ᑕᐃᒪᓐᓇ ᐱᕙᓚᐅᖅᑐᑦ ᐃᓂᖅᑎᕆᔾᔪᑕᐅᓇᓂ ᑭᓯᐊᓂ ᓄᓇᓕᐅᔪᑦ ᐊᑦᑕᓇᖏᑦᑐᒦᑎᑕᐅᓇᓱᐊᕐᖢᑎ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ᒃᑐᐊᖃᑎᒌᖕᓂᖏᑦ ᐊᒻᒪ ᐊᑭᓂᐊᖅᑕᐅᔭᓐᓂ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ᐃᑦ ᐅᒃᐱᕈᓱᓚᐅᖅᑐᑦ ᑖᔅᓱᒪ ᐱᕋᔭᒃᓯᒪᔫᑉ ᓇᒡᓕᒋᔭᖏᑦ ᐊᑭᓂᐊᖅᑕᐅᒐᔭᕐᓂᖏᓐᓂᒃ ᑖᔅᓱᒪ ᐱᓂᐊᕐᓂᕆᓚᐅᖅᑕᖏᓐᓄ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ᓱᒪᒋᔭᐅᔪᑦ ᐊᑭᓂᐊᖅᑕᐅᔭᓐᓂᖏᓐᓄᑦ ᐱᕋᔭᒃᑕᐃᓕᑎᑦᑎᔾᔪᑕᐅᓚᐅᖅᑐᑦ. ᐅᒃᐱᕈᓱᓚᐅᖅᑐᑦ ᑕᕐᓂᐅᔪᑦ, ᓲᕐᓗ ᓯᓚᒃᑯᑦ ᐱᓐᖑᐊᕐᓂᒃᑯᓪᓘᓐᓃᑦ ᐊᑭᓂᐊᕈᑕᐅᖃᑦᑕᕐᓂᖏᓐᓂᒃ ᐱᕋᔭᒃᓯᒪᔪᓄᑦ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ᐱᐅᖏᓐᓃᑦ ᐅᒃᐱᕆᔭᐅᓚᐅᖅᑐᑦ ᓯᓚᒥᒃ ᐱᐅᓐᖏᓕᖅᑎᑦᑎᓂᖏᓐᓂ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ᒥᖕᓂᑐᔪᓪᓗ ᐊᖑᓇᓱᒃᑲᓗᐊᕐᓗᑎᒃ ᐊᖑᓯᔪᓐᓇᖏᓪᓗᑎ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ᓄᐊᕐᓯᒪᔪᓪᓗ ᐃᓅᓯᒃᓴᑭᓪᓗᑎ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ᖕᒪᓗᕐᓯᓯᒪᔪᖅ ᐋᖅᑭᒡᓱᐃᔾᔪᓯ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ᐊᑲᐅᓐᖏᓕᐅᕈᑎᐅᔪᑦ ᒥᑭᑦᑑᑕᐅᓂᖏᑦ ᑲᒪᒋᔭᐅᕙᓚᐅᖅᑐᑦ ᑭᓯᐊᓂ ᐃᓐᓇᕐᓄ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ᓄᓇᓕᐅᔪᑦ ᐃᓚᐅᑎᑕᐅᓕᖅᐸᓚᐅᖅᑐᑦ ᐊᑲᐅᓐᖏᓕᐅᕈᑎᐅᔪᖅ ᐅᒃᐱᕆᔭᐅᒍᓂ ᐃᓅᓯᕐᒧᑦ ᐊᑦᑕᕐᓇᕐᓂᖓᓂᒃ ᐅᕝᕙᓘᓐᓃᑦ ᑐᐊᕕᕐᓇᖅᑎᓪᓗ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ᓅᓯᓕᕆᕙᓚᐅᖅᑐᑦ ᐃᓄᑑᖃᑎᒋᓪᓗᒍ ᑕᖅᑲᒃᑯᐊ ᐃᒻᒥᖕᓄᑦ ᐅᖃᕈᓘᔭᕐᓂᐊᖏᒻᒪᑕ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ᓐᓇᐃᑦ ᑭᓯᐊᓂ ᐱᓕᕆᖃᑕᐅᓪᓗᑎᒃ ᐊᒻᒪ ᑖᓐᓇ ᐱᕋᔭᒃᓯᒪᔪᖅ ᐃᓚᐅᓪᓗ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ᖓᒃᑯᐃ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ᐱᖓᓲᓕᖅᑲᖓᓚᐅᕐᓯᒪᔪᑦ ᐊᖓᒃᑯᐃᑦ; ᐃᓚᖏᑦ ᐃᓄᐊᖅᑎᐅᓪᓗᑎᒃ; ᐃᓚᖏᓪᓗ ᒪᒥᓴᐃᔨᐅᓪᓗᑎᒃ ᐊᒻᒪ ᐃᓚᖏᑦ ᓂᕐᔪᑎᓂᒃ ᖃᐃᖅᑯᔨᔨᐅᓪᓗᑎᒃ ᓄᓇᓕᖕᓄ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ᐊᖓᒃᑯᐃᑦ ᑕᑯᔪᓐᓇᓚᐅᖅᑐᑦ ᐃᓄᐃᑦ ᑕᒻᒪᕐᓯᒪᓂᖏᓐᓂ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ᐊᖓᒃᑯᐃᑦ ᑑᕐᖓᖏᑦ ᐃᓯᑲᐃᓐᓇᕈᓐᓇᓚᐅᖅᑐᑦ ᐊᓯᐊᓄᑦ ᐊᓯᓐᖑᕐᖢᑎᒃ ᐃᓄᐊᕋᓱᒍᑎᒋᓪᓗ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ᑭᓇᑐᐃᓐᓇᖅ ᐃᓄᐊᖅᑐᖅ ᐱᔭᖅᑰᒻᒥ ᐊᔾᔨᒋᓐᖏᑕᒍᑦ ᐱᓂᐊᕐᓂᖃᕐᕕᐅᕙᓚᐅᖅᑐᖅ ᐊᖓᒃᑯᒥᒍᑦ ᐃᓄᐊᖅᑑᑉ.  ᑕᒪᕐᒥᒃ ᐊᑐᖁᔭᐅᕙᓚᐅᖏᑦᑐᑦ, ᑭᓯᐊᓂᓕ ᐃᓄᐊᖅᑐᖃᕋᒥ ᐊᖓᒃᑯᒥᒍᑦ ᑖᓐᓇ ᐃᓄᒃ ᐸᓯᔭᒃᓴᐅᕙᓚᐅᖏᑦᑐᖅ ᐱᓂᐊᕐᓂᖓᓄ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ᐱᔭᐅᔪᑦ: ᓄᓇᕗᑦ ᓯᓚᑦᑐᓴᕐᕕᖓᓐᓂ: ᐃᓐᓇᐃᑦ ᐊᐱᖅᓱᖅᑕᐅᔾᔪᑎᕕᓂᖏᓐᓂ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ᓕᖃᓯᐅᔾᔨᓂᖅ ᐃᓄᐃᑦ ᖃᐅᔨᒪᔭᑐᖃᖏᓐᓂᒃ ᓄᓇᕗᒥ ᓴᓇᔭᐅᓯᒪᔪᒧᑦ ᐃᖅᑲᖅᑐᐃᕕᓕᕆᓂᕐᒧᑦ ᐊᐅᓚᓂᐅᔪᒧ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8:39:16Z</dcterms:created>
  <dc:creator>Christina Abbott</dc:creator>
  <dc:description/>
  <dc:language>en-US</dc:language>
  <cp:lastModifiedBy> </cp:lastModifiedBy>
  <dcterms:modified xsi:type="dcterms:W3CDTF">2007-02-21T21:48:20Z</dcterms:modified>
  <cp:revision>59</cp:revision>
  <dc:subject/>
  <dc:title>Slide 1</dc:title>
</cp:coreProperties>
</file>