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73F40-32AB-49A3-B2C4-EB25C5BD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B7C01-A781-42A6-915F-F3D61AA9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1D87E-2BC5-4B2A-B534-34E70738B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07B24-CA11-4E43-8D59-6B5F4CD3C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68E3-9919-4DA6-B79A-D034EF41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6FDA-164D-4C79-A556-86943B9FE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F64D0-8417-4965-A0C3-63637E7EE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D9E51-1F17-4314-812A-87B75C30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D8263-53BD-4DBA-85D7-65579082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CC05-A9A0-4B61-89F2-7D790F48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F2EC-F44F-4D0A-AB9E-AB7A31D1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59221-0ED7-4D56-BFEA-64BCFA74A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5005-5D13-4A12-BCC9-39B1DBA91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Pigiarniq"/>
              </a:rPr>
              <a:t>ᐃᓕᓐᓂᐊᕐᓂᖅ ᐱᓕᕆᓂᒃᑯᑦ</a:t>
            </a:r>
            <a:endParaRPr b="0" lang="en-US" sz="4000" spc="-1" strike="noStrike">
              <a:solidFill>
                <a:srgbClr val="000000"/>
              </a:solidFill>
              <a:latin typeface="Arial"/>
            </a:endParaRPr>
          </a:p>
        </p:txBody>
      </p:sp>
      <p:sp>
        <p:nvSpPr>
          <p:cNvPr id="42" name=""/>
          <p:cNvSpPr/>
          <p:nvPr/>
        </p:nvSpPr>
        <p:spPr>
          <a:xfrm>
            <a:off x="2209680" y="3581280"/>
            <a:ext cx="48769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en-US" sz="4000" spc="-1" strike="noStrike">
                <a:solidFill>
                  <a:srgbClr val="000000"/>
                </a:solidFill>
                <a:latin typeface="Arial"/>
              </a:rPr>
              <a:t>:</a:t>
            </a:r>
            <a:br>
              <a:rPr sz="4000"/>
            </a:br>
            <a:r>
              <a:rPr b="0" i="1" lang="id-ID" sz="4000" spc="-1" strike="noStrike">
                <a:solidFill>
                  <a:srgbClr val="000000"/>
                </a:solidFill>
                <a:latin typeface="Pigiarniq"/>
              </a:rPr>
              <a:t>ᐆᒃᑐᕋᐃᓐᓇᖃᑦᑕᕐᓂᒃᑯᑦ</a:t>
            </a:r>
            <a:endParaRPr b="0" lang="en-US" sz="4000" spc="-1" strike="noStrike">
              <a:solidFill>
                <a:srgbClr val="000000"/>
              </a:solidFill>
              <a:latin typeface="Arial"/>
            </a:endParaRPr>
          </a:p>
        </p:txBody>
      </p:sp>
      <p:sp>
        <p:nvSpPr>
          <p:cNvPr id="58" name="PlaceHolder 2"/>
          <p:cNvSpPr>
            <a:spLocks noGrp="1"/>
          </p:cNvSpPr>
          <p:nvPr>
            <p:ph/>
          </p:nvPr>
        </p:nvSpPr>
        <p:spPr>
          <a:xfrm>
            <a:off x="304920" y="1600200"/>
            <a:ext cx="4114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ᑕᖅᑲᑦ ᐱᓕᒻᒪᒃᓴᖅᐸᒃᑐᑦ ᐆᒃᑐᕋᖅᐸᒡᖢᑎᒃ ᑕᑯᔭᒥᖕᓂᒃ</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ᒪᓕᒡᖢᑎᒃ ᐊᖓᔪᖅᑳᒥᖕᓂᒃ, ᐃᓐᓇᕐᓂᒃ, ᓄᓇᖅᑲᑎᖏᓐᓂᒡᓗ</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ᒻᒪᒃᓴᒃᑲᓐᓂᖅᐸᒃᑎᓪᓗᒋᑦ ᐃᒪᐃᓕᐅᖅᐳᑦ:</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ᐃᓕᑉᐸᒃᐳᑦ ᓄᑖᓂᒃ </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ᐱᓕᕆᔾᔪᓯᖏᑦ ᐱᐅᓯᒋᐊᕐᖢᒋᑦ ᓄᓇᓕᖕᓂ ᐃᓚᐅᔪᓐᓇᕐᓯᓂᐊᕐᒪᑦ ᐱᓕᕆᖃᑕᐅᓗᓂ.</a:t>
            </a:r>
            <a:r>
              <a:rPr b="0" lang="en-US" sz="1800" spc="-1" strike="noStrike">
                <a:solidFill>
                  <a:srgbClr val="000000"/>
                </a:solidFill>
                <a:latin typeface="Pigiarniq"/>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en-US" sz="4000" spc="-1" strike="noStrike">
                <a:solidFill>
                  <a:srgbClr val="000000"/>
                </a:solidFill>
                <a:latin typeface="Arial"/>
              </a:rPr>
              <a:t>:</a:t>
            </a:r>
            <a:br>
              <a:rPr sz="4000"/>
            </a:br>
            <a:r>
              <a:rPr b="0" i="1" lang="id-ID" sz="4000" spc="-1" strike="noStrike">
                <a:solidFill>
                  <a:srgbClr val="000000"/>
                </a:solidFill>
                <a:latin typeface="Pigiarniq"/>
              </a:rPr>
              <a:t>ᑐᑭᓯᓂᖅ</a:t>
            </a:r>
            <a:endParaRPr b="0" lang="en-US" sz="4000" spc="-1" strike="noStrike">
              <a:solidFill>
                <a:srgbClr val="000000"/>
              </a:solidFill>
              <a:latin typeface="Arial"/>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ᐃᓕᖅᑯᓯᐅᑉ ᐱᐅᓯᖏᑦ</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ᐃᓕᓐᓂᐊᕐᓂᖅ ᐃᓐᓇᕐᓂᑦ/ᐅᓂᒃᑳᖅᑐᐊᓂᑦ/ᐃᓚᒌᓂᑦ</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ᐱᓕᕆᖃᑎᒌᖕᓂᖅ</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ᐃᓕᑉᐸᓪᓕᐊᖃᑎᒌᖃᑦᑕᕐᓗᑎᒃ ᐊᓯᒥᑦ/ᓄᓇᓕᖕᓂᓗ ᐃᓅᓂᖅ</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ᓄᓇ</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ᓄᓇᒥ ᐊᐅᓪᓚᕐᓯᒪᖃᑦᑕᕐᓂᖅ ᐊᒻᒪ ᓯᓚᒧᑦ ᓱᖏᐅᓴᓂᖅ</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ᓗᓕᖏᑦ ᐃᓕᓐᓂᐊᕐᓂᖅ ᐱᓕᕆᓂᒃᑯᑦ</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2"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ᓐᓇᐃᑦ</a:t>
            </a:r>
            <a:r>
              <a:rPr b="0" lang="en-US" sz="3600" spc="-1" strike="noStrike">
                <a:solidFill>
                  <a:srgbClr val="000000"/>
                </a:solidFill>
                <a:latin typeface="Pigiarniq"/>
              </a:rPr>
              <a:t>: </a:t>
            </a:r>
            <a:endParaRPr b="0" lang="en-US" sz="3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igiarniq"/>
              </a:rPr>
              <a:t>	</a:t>
            </a:r>
            <a:r>
              <a:rPr b="0" lang="en-US" sz="2400" spc="-1" strike="noStrike">
                <a:solidFill>
                  <a:srgbClr val="000000"/>
                </a:solidFill>
                <a:latin typeface="Pigiarniq"/>
              </a:rPr>
              <a:t>	</a:t>
            </a:r>
            <a:r>
              <a:rPr b="0" lang="en-US" sz="2400" spc="-1" strike="noStrike">
                <a:solidFill>
                  <a:srgbClr val="000000"/>
                </a:solidFill>
                <a:latin typeface="Pigiarniq"/>
              </a:rPr>
              <a:t>“</a:t>
            </a:r>
            <a:r>
              <a:rPr b="0" lang="id-ID" sz="2400" spc="-1" strike="noStrike">
                <a:solidFill>
                  <a:srgbClr val="000000"/>
                </a:solidFill>
                <a:latin typeface="Pigiarniq"/>
              </a:rPr>
              <a:t>ᐅᐸᒍᑎᔭᒃᑲᑦᑎᒍ, ᖃᐅᔨᒪᓂᖏᓐᓄᑐᐊᖑᖏᑦᑐᖅ, ᐱᔾᔪᑎᒋᓪᓗᒍ ᖃᐅᔨᒪᓂᕐᒥᖕᓂᒃ ᐅᖃᐅᓯᖃᖃᑦᑕᕐᒪᑕ ᓄᓇᓕᖕᓄᑦ</a:t>
            </a:r>
            <a:r>
              <a:rPr b="0" lang="en-US" sz="2400" spc="-1" strike="noStrike">
                <a:solidFill>
                  <a:srgbClr val="000000"/>
                </a:solidFill>
                <a:latin typeface="Pigiarniq"/>
              </a:rPr>
              <a:t>.” </a:t>
            </a:r>
            <a:r>
              <a:rPr b="0" lang="en-US" sz="2400" spc="-1" strike="noStrike">
                <a:solidFill>
                  <a:srgbClr val="000000"/>
                </a:solidFill>
                <a:latin typeface="Pigiarniq"/>
              </a:rPr>
              <a:t>	</a:t>
            </a:r>
            <a:r>
              <a:rPr b="0" lang="en-US" sz="2400" spc="-1" strike="noStrike">
                <a:solidFill>
                  <a:srgbClr val="000000"/>
                </a:solidFill>
                <a:latin typeface="Pigiarniq"/>
              </a:rPr>
              <a:t>	</a:t>
            </a:r>
            <a:r>
              <a:rPr b="0" lang="en-US" sz="1600" spc="-1" strike="noStrike">
                <a:solidFill>
                  <a:srgbClr val="000000"/>
                </a:solidFill>
                <a:latin typeface="Pigiarniq"/>
              </a:rPr>
              <a:t>	</a:t>
            </a:r>
            <a:r>
              <a:rPr b="0" lang="id-ID" sz="1600" spc="-1" strike="noStrike">
                <a:solidFill>
                  <a:srgbClr val="000000"/>
                </a:solidFill>
                <a:latin typeface="Pigiarniq"/>
              </a:rPr>
              <a:t>-</a:t>
            </a:r>
            <a:r>
              <a:rPr b="0" i="1" lang="id-ID" sz="1600" spc="-1" strike="noStrike">
                <a:solidFill>
                  <a:srgbClr val="000000"/>
                </a:solidFill>
                <a:latin typeface="Pigiarniq"/>
              </a:rPr>
              <a:t>ᓯᓚᑦᑐᓴᕐᕕᒡᔪᐊᒥ ᐃᓕᓴᐃᔨ, ᔭᓐ ᑲᐅᓪᑕᓐ</a:t>
            </a:r>
            <a:r>
              <a:rPr b="0" i="1" lang="en-US" sz="1600" spc="-1" strike="noStrike">
                <a:solidFill>
                  <a:srgbClr val="000000"/>
                </a:solidFill>
                <a:latin typeface="Pigiarniq"/>
              </a:rPr>
              <a:t>,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en-US" sz="1600" spc="-1" strike="noStrike">
                <a:solidFill>
                  <a:srgbClr val="000000"/>
                </a:solidFill>
                <a:latin typeface="Pigiarniq"/>
              </a:rPr>
              <a:t>Acadia University</a:t>
            </a:r>
            <a:r>
              <a:rPr b="0" i="1" lang="id-ID" sz="1600" spc="-1" strike="noStrike">
                <a:solidFill>
                  <a:srgbClr val="000000"/>
                </a:solidFill>
                <a:latin typeface="Pigiarniq"/>
              </a:rPr>
              <a:t> ᓯᓚᑦᑐᓴᕐᕕᒡᔪᐊᖓ</a:t>
            </a:r>
            <a:endParaRPr b="0" lang="en-US" sz="16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ᓯᕗᓕᖅᑎᐅᓂᖅ: ᒪᓕᒐᖏᑦ ᐃᓅᓂᐊᕐᓗᓂ ᓄᓇᒥ</a:t>
            </a:r>
            <a:endParaRPr b="0" lang="en-US" sz="24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ᓄᓇᓕᖕᓄᑦ ᐊᔭᐅᖅᑕᐅᓂᖅ</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ᖃᐅᔨᒪᓂᖃᖅᑐᑦ, ᐅᖃᐅᔾᔨᒋᐊᖅᑎᑦ, ᑭᖑᓂᑦᑎᓐᓂ ᐊᑐᕐᓂᑯᑦ</a:t>
            </a:r>
            <a:endParaRPr b="0" lang="en-US" sz="24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ᓴᓇᔾᔪᓯᕆᔭᑦ</a:t>
            </a:r>
            <a:endParaRPr b="0" lang="en-US" sz="36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ᐊᒃᓱᕈᖅᑐᐃᓐᓇᐅᓪᓗᑎᒃ ᐃᓘᓐᓇᖏᑦ ᓄᓇᓕᐅᔪᑦ ᐆᒪᖁᓪᓗᒋᑦ ᐊᓐᓇᐅᒪᖁᓪᓗᒋᑦ</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Pigiarniq"/>
              </a:rPr>
              <a:t>ᐃᓄᐃᑦ ᖃᐅᔨᒪᔭᑐᖃᖏᑦ ᐃᓕᓐᓂᐊᕐᕕᐅᑉ ᐃᒡᓗᕈᓯᖓᓂ</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533520" y="17524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ᑲᑎᑕᐅᓂᖏᑦ ᐱᑐᖃᐃᑦ ᐊᒻᒪ ᓄᑖᑦ</a:t>
            </a:r>
            <a:r>
              <a:rPr b="0" lang="en-US" sz="2800" spc="-1" strike="noStrike">
                <a:solidFill>
                  <a:srgbClr val="000000"/>
                </a:solidFill>
                <a:latin typeface="Pigiarniq"/>
              </a:rPr>
              <a:t>	</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ᖃᓯᐅᑎᖁᓪᓗᒋᑦ ᐱᐅᓯᑐᖃᐅᔪᑦ “ᐃᓕᓐᓂᐊᕐᓂᖅ ᐱᓕᕆᐊᖃᕐᓂᒃᑯᑦ”</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ᑎᓕᐅᕆᓂᖅ ᐃᓄᐃᑦ ᐃᓕᖅᑯᓯᖓᓐᓂᒃ ᐊᒻᒪ ᐅᖃᐅᓯᖓᓐᓂᒃ</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ᐸᕐᓇᐃᓂᖅ ᐃᓕᓐᓂᐊᖅᑎᓂᒃ ᖁᕝᕙᓯᖕᓂᖅᓴᒧᑦ ᐃᓕᓴᕐᓂᕐᒧᑦ</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Pigiarniq"/>
              </a:rPr>
              <a:t>“</a:t>
            </a:r>
            <a:r>
              <a:rPr b="0" lang="en-CA" sz="2800" spc="-1" strike="noStrike">
                <a:solidFill>
                  <a:srgbClr val="000000"/>
                </a:solidFill>
                <a:latin typeface="Pigiarniq"/>
              </a:rPr>
              <a:t>ᐱᔨᑦᓯᕐᓂᖅ” (ᐱᔨᑦᑎᕋᕐᓂᖅ) </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Pigiarniq"/>
              </a:rPr>
              <a:t> “</a:t>
            </a:r>
            <a:r>
              <a:rPr b="0" lang="en-CA" sz="2000" spc="-1" strike="noStrike">
                <a:solidFill>
                  <a:srgbClr val="000000"/>
                </a:solidFill>
                <a:latin typeface="Pigiarniq"/>
              </a:rPr>
              <a:t>ᐃᓕᓐᓂᐊᖅᑐᓕᕆᓂᕐᒧᑦ ᐊᐅᓚᓂᐅᔪᑦ ᐱᔨᑦᓯᕆᐊᖃᖅᑐᑦ ᓄᓇᓕᖕᓂᒃ, ᐃᒡᓗᐊᓂᖔᐊᓄᖏᑦᑐᖅ”*</a:t>
            </a:r>
            <a:endParaRPr b="0" lang="en-US" sz="2000" spc="-1" strike="noStrike">
              <a:solidFill>
                <a:srgbClr val="000000"/>
              </a:solidFill>
              <a:latin typeface="Arial"/>
            </a:endParaRPr>
          </a:p>
        </p:txBody>
      </p:sp>
      <p:sp>
        <p:nvSpPr>
          <p:cNvPr id="65" name=""/>
          <p:cNvSpPr/>
          <p:nvPr/>
        </p:nvSpPr>
        <p:spPr>
          <a:xfrm>
            <a:off x="685800" y="6248520"/>
            <a:ext cx="6248520" cy="71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900" spc="-1" strike="noStrike">
                <a:solidFill>
                  <a:srgbClr val="000000"/>
                </a:solidFill>
                <a:latin typeface="Pigiarniq"/>
              </a:rPr>
              <a:t>ᐱᔭᐅᔪᖅ: ᓯᐊᔭ ᒪᓄᒋ” ᐃᖃᓗᐃᑦ ᐃᓕᓐᓂᐊᖅᑐᓕᕆᔨᒃᑯᖏᑦ ᓇᒻᒪᒃᓴᓐᖏᓚᑦ ᐃᓕᓐᓂᐊᖅᑐᓕᕆᔨᒃᑯᑦ ᐱᖁᔭᕐᔪᐊᖓᓂ ᑭᑭᑕᐅᔪᓂ” ᓄᓇᑦᓯᐊᖅ ᓂᐅᔅ ᔭᓐᓄᐊᕆ </a:t>
            </a:r>
            <a:r>
              <a:rPr b="0" lang="en-CA" sz="900" spc="-1" strike="noStrike">
                <a:solidFill>
                  <a:srgbClr val="000000"/>
                </a:solidFill>
                <a:latin typeface="Arial"/>
              </a:rPr>
              <a:t> 2006</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Pigiarniq"/>
              </a:rPr>
              <a:t>ᐃᓄᐃᑦ ᖃᐅᔨᒪᔭᑐᖃᖏᑦ ᐃᓕᓐᓂᐊᕐᕕᐅᑉ ᐃᒡᓗᕈᓯᖓᓂ</a:t>
            </a:r>
            <a:endParaRPr b="0" lang="en-US" sz="2400" spc="-1" strike="noStrike">
              <a:solidFill>
                <a:srgbClr val="000000"/>
              </a:solidFill>
              <a:latin typeface="Arial"/>
            </a:endParaRPr>
          </a:p>
        </p:txBody>
      </p:sp>
      <p:sp>
        <p:nvSpPr>
          <p:cNvPr id="67" name="PlaceHolder 2"/>
          <p:cNvSpPr>
            <a:spLocks noGrp="1"/>
          </p:cNvSpPr>
          <p:nvPr>
            <p:ph/>
          </p:nvPr>
        </p:nvSpPr>
        <p:spPr>
          <a:xfrm>
            <a:off x="456840" y="1599840"/>
            <a:ext cx="396252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ᐃᓕᓐᓂᐊᕈᑎᑦ ᓴᓇᔭᐅᓯᒪᔪᑦ ᖃᐅᑕᒫᑦ ᐊᑐᖅᑕᐅᕙᒃᑐᓂᑦ ᐊᒻᒪ ᐱᓕᕆᔾᔪᑎᒃᓴᑦ</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ᖃᒧᑎᒃ ᐱᒻᒪᕆᐅᔪᓐᓇᖅᑐᖅ ᐃᓕᓐᓂᐊᕐᕕᐅᑉ ᐃᒡᓗᕈᓯᖓᓂ ᓴᓇᕐᕈᑕᐅᓗᓂ: ᐊᑐᖅᑕᐅᔪᓐᓇᖅᑐᖅ ᐃᓕᓐᓂᐊᖅᑎᑦᑎᔾᔪᑕᐅᓗᓂ ᑭᖑᓂᑦᑎᓐᓂ ᐊᑐᖅᑕᐅᔪᕕᓂᕐᓂᒃ, ᐊᒻᒪ ᓇᓴᐅᓯᕆᔾᔪᑕᐅᓗᓂ</a:t>
            </a:r>
            <a:r>
              <a:rPr b="0" lang="en-US" sz="2000" spc="-1" strike="noStrike">
                <a:solidFill>
                  <a:srgbClr val="000000"/>
                </a:solidFill>
                <a:latin typeface="Pigiarniq"/>
              </a:rPr>
              <a:t>.* </a:t>
            </a:r>
            <a:endParaRPr b="0" lang="en-US" sz="2000" spc="-1" strike="noStrike">
              <a:solidFill>
                <a:srgbClr val="000000"/>
              </a:solidFill>
              <a:latin typeface="Arial"/>
            </a:endParaRPr>
          </a:p>
        </p:txBody>
      </p:sp>
      <p:sp>
        <p:nvSpPr>
          <p:cNvPr id="68" name=""/>
          <p:cNvSpPr/>
          <p:nvPr/>
        </p:nvSpPr>
        <p:spPr>
          <a:xfrm>
            <a:off x="838080" y="6019920"/>
            <a:ext cx="6172200" cy="622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900" spc="-1" strike="noStrike">
                <a:solidFill>
                  <a:srgbClr val="000000"/>
                </a:solidFill>
                <a:latin typeface="Arial"/>
              </a:rPr>
              <a:t> </a:t>
            </a:r>
            <a:r>
              <a:rPr b="0" lang="id-ID" sz="900" spc="-1" strike="noStrike">
                <a:solidFill>
                  <a:srgbClr val="000000"/>
                </a:solidFill>
                <a:latin typeface="Pigiarniq"/>
              </a:rPr>
              <a:t>ᐱᔭᐅᔪᑦ: ᓄᓇᕗᒥ ᐃᓕᓐᓂᐊᕈᑎᒃᓴᓕᐅᖅᑎᑦ</a:t>
            </a:r>
            <a:r>
              <a:rPr b="0" lang="en-US" sz="900" spc="-1" strike="noStrike">
                <a:solidFill>
                  <a:srgbClr val="000000"/>
                </a:solidFill>
                <a:latin typeface="Pigiarniq"/>
              </a:rPr>
              <a:t> - </a:t>
            </a:r>
            <a:r>
              <a:rPr b="0" lang="en-US" sz="900" spc="-1" strike="noStrike" u="sng">
                <a:solidFill>
                  <a:srgbClr val="000000"/>
                </a:solidFill>
                <a:uFillTx/>
                <a:latin typeface="Pigiarniq"/>
              </a:rPr>
              <a:t>http://142.206.72.67/02/02c/02c_supp/02c_supp_001_e.htm</a:t>
            </a:r>
            <a:r>
              <a:rPr b="0" lang="en-US" sz="900" spc="-1" strike="noStrike">
                <a:solidFill>
                  <a:srgbClr val="000000"/>
                </a:solidFill>
                <a:latin typeface="Pigiarniq"/>
              </a:rPr>
              <a:t> - </a:t>
            </a:r>
            <a:r>
              <a:rPr b="0" lang="id-ID" sz="900" spc="-1" strike="noStrike">
                <a:solidFill>
                  <a:srgbClr val="000000"/>
                </a:solidFill>
                <a:latin typeface="Pigiarniq"/>
              </a:rPr>
              <a:t>ᕖᕝᕗᐊᕆ</a:t>
            </a:r>
            <a:r>
              <a:rPr b="0" lang="en-US" sz="900" spc="-1" strike="noStrike">
                <a:solidFill>
                  <a:srgbClr val="000000"/>
                </a:solidFill>
                <a:latin typeface="Pigiarniq"/>
              </a:rPr>
              <a:t>. 14th/07</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2120" y="1143000"/>
            <a:ext cx="7543800" cy="573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Pigiarniq"/>
              </a:rPr>
              <a:t>ᖃᐅᔨᒪᓃᑦ ᐊᒻᒪ ᒪᓕᒐᐅᔪᑦ ᑐᓐᖓᕕᐅᔪᑦ ᓴᖅᑭᓯᒪᔪᑦ ᓄᓇᓕᖕᓂ ᐊᕐᕌᒍᒐᓴᐃᑦ ᐊᓂᒍᕐᓯᒪᓕᖅᑐᑦ ᐊᑐᖅᑕᐅᔭᕆᐊᖃᖅᐳᑦ ᐃᓕᓐᓂᐊᖅᑎᑦᓯᓂᕐᒧᑦ.</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igiarniq"/>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Pigiarniq"/>
              </a:rPr>
              <a:t>ᑭᓯᐊᓂ ᑕᐃᒪᐃᓕᕈᑦᑕ ᐅᐱᒍᓱᑦᑎᐊᓕᕈᓐᓇᖅᑐᒍᑦ ᐱᖅᑯᓯᑐᖃᕐᓂᖅ ᐊᑐᖅᑕᐅᕙᒃᑐᑐᖃᕐᓂᒃ ᐊᒻᒪ ᐃᓕᖅᑯᓯᕐᓂ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14040" y="1066680"/>
            <a:ext cx="7162920" cy="563904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id-ID" sz="3200" spc="-1" strike="noStrike">
                <a:solidFill>
                  <a:srgbClr val="000000"/>
                </a:solidFill>
                <a:latin typeface="Pigiarniq"/>
              </a:rPr>
              <a:t>ᐃᓕᓐᓂᐊᕐᓂᖅ</a:t>
            </a:r>
            <a:endParaRPr b="0" lang="en-US" sz="32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igiarniq"/>
              </a:rPr>
              <a:t>	</a:t>
            </a:r>
            <a:r>
              <a:rPr b="1" i="1" lang="en-US" sz="3200" spc="-1" strike="noStrike">
                <a:solidFill>
                  <a:srgbClr val="000000"/>
                </a:solidFill>
                <a:latin typeface="Pigiarniq"/>
              </a:rPr>
              <a:t>	</a:t>
            </a:r>
            <a:r>
              <a:rPr b="1" i="1" lang="en-US" sz="3200" spc="-1" strike="noStrike">
                <a:solidFill>
                  <a:srgbClr val="000000"/>
                </a:solidFill>
                <a:latin typeface="Pigiarniq"/>
              </a:rPr>
              <a:t>     </a:t>
            </a:r>
            <a:r>
              <a:rPr b="1" i="1" lang="id-ID" sz="4000" spc="-1" strike="noStrike">
                <a:solidFill>
                  <a:srgbClr val="000000"/>
                </a:solidFill>
                <a:latin typeface="Pigiarniq"/>
              </a:rPr>
              <a:t>ᐃᓄᒍᒡᓴᓂᕐᒥᒃ,</a:t>
            </a:r>
            <a:endParaRPr b="0" lang="en-US" sz="40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0" lang="en-US" sz="3200" spc="-1" strike="noStrike">
                <a:solidFill>
                  <a:srgbClr val="000000"/>
                </a:solidFill>
                <a:latin typeface="Pigiarniq"/>
              </a:rPr>
              <a:t> </a:t>
            </a:r>
            <a:endParaRPr b="0" lang="en-US" sz="32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    </a:t>
            </a:r>
            <a:r>
              <a:rPr b="0" lang="id-ID" sz="3200" spc="-1" strike="noStrike">
                <a:solidFill>
                  <a:srgbClr val="000000"/>
                </a:solidFill>
                <a:latin typeface="Pigiarniq"/>
              </a:rPr>
              <a:t>ᑖᓐᓇ ᐱᔾᔪᑎᒋᓪᓗᒍ ᖃᐃᓚᐅᖅᐳᑦ.</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	</a:t>
            </a:r>
            <a:r>
              <a:rPr b="0" lang="en-US" sz="3200" spc="-1" strike="noStrike">
                <a:solidFill>
                  <a:srgbClr val="000000"/>
                </a:solidFill>
                <a:latin typeface="Pigiarniq"/>
              </a:rPr>
              <a:t>	</a:t>
            </a:r>
            <a:r>
              <a:rPr b="0" lang="en-US" sz="3200" spc="-1" strike="noStrike">
                <a:solidFill>
                  <a:srgbClr val="000000"/>
                </a:solidFill>
                <a:latin typeface="Pigiarniq"/>
              </a:rPr>
              <a:t>	</a:t>
            </a:r>
            <a:r>
              <a:rPr b="0" lang="en-US" sz="3200" spc="-1" strike="noStrike">
                <a:solidFill>
                  <a:srgbClr val="000000"/>
                </a:solidFill>
                <a:latin typeface="Pigiarniq"/>
              </a:rPr>
              <a:t>	</a:t>
            </a:r>
            <a:r>
              <a:rPr b="0" i="1" lang="en-US" sz="2000" spc="-1" strike="noStrike">
                <a:solidFill>
                  <a:srgbClr val="000000"/>
                </a:solidFill>
                <a:latin typeface="Pigiarniq"/>
              </a:rPr>
              <a:t>- </a:t>
            </a:r>
            <a:r>
              <a:rPr b="0" i="1" lang="id-ID" sz="2000" spc="-1" strike="noStrike">
                <a:solidFill>
                  <a:srgbClr val="000000"/>
                </a:solidFill>
                <a:latin typeface="Pigiarniq"/>
              </a:rPr>
              <a:t>ᐋᓰᓐ ᐃᕙᓗ</a:t>
            </a:r>
            <a:r>
              <a:rPr b="0" i="1" lang="en-US" sz="2000" spc="-1" strike="noStrike">
                <a:solidFill>
                  <a:srgbClr val="000000"/>
                </a:solidFill>
                <a:latin typeface="Pigiarniq"/>
              </a:rPr>
              <a:t>, 1996</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igiarniq"/>
              </a:rPr>
              <a:t>	</a:t>
            </a:r>
            <a:r>
              <a:rPr b="0" i="1" lang="en-US" sz="2000" spc="-1" strike="noStrike">
                <a:solidFill>
                  <a:srgbClr val="000000"/>
                </a:solidFill>
                <a:latin typeface="Pigiarniq"/>
              </a:rPr>
              <a:t>	</a:t>
            </a:r>
            <a:r>
              <a:rPr b="0" i="1" lang="en-US" sz="2000" spc="-1" strike="noStrike">
                <a:solidFill>
                  <a:srgbClr val="000000"/>
                </a:solidFill>
                <a:latin typeface="Pigiarniq"/>
              </a:rPr>
              <a:t>	</a:t>
            </a:r>
            <a:r>
              <a:rPr b="0" i="1" lang="id-ID" sz="2000" spc="-1" strike="noStrike">
                <a:solidFill>
                  <a:srgbClr val="000000"/>
                </a:solidFill>
                <a:latin typeface="Pigiarniq"/>
              </a:rPr>
              <a:t>ᐊᐅᔭᒃᑯᑦ ᓄᓇᒥ ᐊᐅᓪᓚᕐᓯᒪᓂᕐᒥ ᐃᓕᓐᓂᐊᕐᓂᖅ</a:t>
            </a:r>
            <a:r>
              <a:rPr b="0" i="1" lang="en-US" sz="2000" spc="-1" strike="noStrike">
                <a:solidFill>
                  <a:srgbClr val="000000"/>
                </a:solidFill>
                <a:latin typeface="Pigiarniq"/>
              </a:rPr>
              <a:t>*</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igiarniq"/>
              </a:rPr>
              <a:t>*ᐱᔭᐅᔪᑦ: ᐃᓄᓪᓚᕆᑦ ᑲᑐᔾᔨᖃᑎᒌᖏᑕ ᑎᑎᕋᕐᒪᔭᖏᓐᓂᑦ, 1993-1997. ᐅᖃᐅᑎᕕᓂᑦ ᑎᑎᕋᖅᑕᐅᔪᑦ ᖃᐅᔨᓴᖅᑕᐅᑎᓪᓗᒋᑦ.  ᐃᑦ ᐸᒥᓚ ᓯᑐᓐ ᐊᒻᒪ ᓕᓴ ᓯᑎᕕᓐᓴᓐ (Lincoln</a:t>
            </a:r>
            <a:r>
              <a:rPr b="0" lang="en-US" sz="1000" spc="-1" strike="noStrike">
                <a:solidFill>
                  <a:srgbClr val="000000"/>
                </a:solidFill>
                <a:latin typeface="Pigiarniq"/>
              </a:rPr>
              <a:t>:</a:t>
            </a:r>
            <a:r>
              <a:rPr b="0" lang="es-ES_tradnl" sz="1000" spc="-1" strike="noStrike">
                <a:solidFill>
                  <a:srgbClr val="000000"/>
                </a:solidFill>
                <a:latin typeface="Pigiarniq"/>
              </a:rPr>
              <a:t> University of Nebraska Press, 2006) 14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ᐃᓕᑉᐸᓪᓕᐊᓂᖅ</a:t>
            </a:r>
            <a:endParaRPr b="0" lang="en-US" sz="4400" spc="-1" strike="noStrike">
              <a:solidFill>
                <a:srgbClr val="000000"/>
              </a:solidFill>
              <a:latin typeface="Arial"/>
            </a:endParaRPr>
          </a:p>
        </p:txBody>
      </p:sp>
      <p:sp>
        <p:nvSpPr>
          <p:cNvPr id="4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Pigiarniq"/>
              </a:rPr>
              <a:t>ᐃᓄᐃᑦ ᖃᐅᔨᒪᓂᖓᑕ ᐊᐅᓚᓂᖓ ᑕᐃᔭᐅᕗᖅ ᐃᓄᐃᑦ ᖃᐅᔨᒪᔭᑐᖃᖏᓐᓂ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Pigiarniq"/>
              </a:rPr>
              <a:t>ᐃᓄᐃᑦ ᖃᐅᔨᒪᔭᑐᖃᖏᑦ ᑐᑭᖃᖅᑐᖅ “ᐊᑯᓂ ᖃᐅᔨᒪᔭᐅᓕᖅᑐᑦ ᐃᓄᖕᓄ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762120"/>
            <a:ext cx="7772400" cy="54864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ᖃᐅᔨᒪᔭᑐᖃᖏᑦ ᐃᓗᓕᖃᖅᑐᖅ ᐅᓄᖅᑐᓂᒃ:</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ᕆᔾᔪᓯᑐᖃᖅ ᐱᓕᒻᒪᒃᓴᕐᖢᒍ ᐃᓕᓐᓂᐊᖅᑕᐅᓪᓗᓂ:</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ᒻᒪᒃᓴᕐᖢᑎᒃ ᐊᔪᕈᓐᓃᕐᓴᕐᖢᑎᒃ, ᐱᓕᕆᓇᓱᖕᓂᒃᑯᑦ ᐊᒻᒪ ᐊᐅᓚᓂᒃᑯᑦ</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ᑲᐅᓐᖏᓕᐅᕈᑎᓂ ᐃᓅᓯᓪᓚᕆᖕᒥ ᐋᖅᑭᒡᓱᐃᓂᖅ</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ᐅᒃᐱᕆᔭᖏᑦ</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ᒃᑐᐊᓂᖃᕐᓂᖏᑦ ᓄᓇᒧᑦ ᑲᔪᓯᑎᑕᐅᓗᓂ</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ᓱᒪᒋᔭᐅᔪᑦ ᑕᒪᕐᒥᒃ ᑕᑎᒌᖃᑦᑕᐅᑎᓂᖏᓐᓂᒃ ᐃᓄᐃᑦ ᐊᒻᒪ ᓯᓚ</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ᑯᓂᐊᓗᒃ ᐱᐅᓯᕐᒧᑦ ᒪᓕᒐᕆᔭᐅᔪᑦ ᑐᓐᖓᕕᒋᔭᐅᓪᓗᑎᒃ ᐃᓄᐃᑦ ᐃᓕᖅᑯᓯᖏᓐᓄᑦ ᐊᒻᒪ ᐱᓕᕆᔾᔪᓯᖏᓐᓄᑦ</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ᑐᓴᖅᑎᑦᑎᕙᓚᐅᖅᑐᑦ ᒪᒃᑯᒃᑐᓂᒃ ᐃᓐᖏᐅᓯᖅᑎᒍᑦ, ᐅᓂᒃᑳᑎᒍᑦ, ᐅᓂᒃᑳᖅᑐᐊᑎᒍᑦ, ᐊᒻᒪ ᑕᑯᒃᓴᐅᑎᑦᑎᕕᐅᓪᓗᑎᒃ ᐱᐅᓯᑦᑎᐊᕙᖕᒥᒃ</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ᐃᒻᒥᖕᓄᑦ ᑕᑎᒌᖃᑦᑕᐅᑎᓂᖏᑦ</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Pigiarniq"/>
              </a:rPr>
              <a:t>ᐊᒥᖅᑳᕐᓂᖅ</a:t>
            </a:r>
            <a:r>
              <a:rPr b="0" lang="en-US" sz="2400" spc="-1" strike="noStrike">
                <a:solidFill>
                  <a:srgbClr val="000000"/>
                </a:solidFill>
                <a:latin typeface="Pigiarniq"/>
              </a:rPr>
              <a:t> </a:t>
            </a:r>
            <a:r>
              <a:rPr b="0" lang="id-ID" sz="2400" spc="-1" strike="noStrike">
                <a:solidFill>
                  <a:srgbClr val="000000"/>
                </a:solidFill>
                <a:latin typeface="Pigiarniq"/>
              </a:rPr>
              <a:t>ᐊᑐᖅᑕᐅᔭᕆᐊᖃᖅᑐᖅ ᓄᓇᓕᐅᔪᒧᑦ ᐱᐅᓯᖓᓄᑦ ᐊᒻᒪ ᐃᓅᓯᖏᓐᓄᑦ</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ᒍᓱᖕᓂᖅ ᐊᓯᖓᑕ ᐱᓕᕆᔪᓐᓇᖅᑕᖏᓐᓂᒃ</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ᕐᓇᐃᑦ ᑐᐱᓕᐅᖅᑎᐅᓪᓗᑎᒃ/ ᐊᖑᑎᑦ ᓴᓇᕐᕈᑎᓕᐅᖅᑎᐅᓪᓗᑎᒃ</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ᑭᓯᐊᓂᓕ: ᐱᓕᕆᔭᐅᔪᓐᓇᕐᓂᐅᔪᑦ ᐊᖑᑎᖃᖏᑦᑐᑦ ᐊᕐᓇᖃᕋᑎᒡᓗ, ᐅᓄᖅᑐᑦ ᐊᖑᑎᑦ ᐊᓐᓄᕌᓕᐅᕈᓐᓇᖅᑐᑦ,ᐊᒻᒪ ᐅᓄᖅᑐᑦ ᐊᕐᓇᑦ ᐊᖑᓇᓱᒃᐸᒃᑐ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Pigiarniq"/>
              </a:rPr>
              <a:t> </a:t>
            </a:r>
            <a:r>
              <a:rPr b="0" lang="id-ID" sz="2400" spc="-1" strike="noStrike">
                <a:solidFill>
                  <a:srgbClr val="000000"/>
                </a:solidFill>
                <a:latin typeface="Pigiarniq"/>
              </a:rPr>
              <a:t>“</a:t>
            </a:r>
            <a:r>
              <a:rPr b="0" lang="id-ID" sz="2400" spc="-1" strike="noStrike">
                <a:solidFill>
                  <a:srgbClr val="000000"/>
                </a:solidFill>
                <a:latin typeface="Pigiarniq"/>
              </a:rPr>
              <a:t>ᐱᕐᔪᐊᖃᖅᐸᓚᐅᕐᓯᒪᒐᑦᑕ ᑕᐃᔭᐅᔪᒥᒃ </a:t>
            </a:r>
            <a:r>
              <a:rPr b="0" i="1" lang="id-ID" sz="2400" spc="-1" strike="noStrike">
                <a:solidFill>
                  <a:srgbClr val="000000"/>
                </a:solidFill>
                <a:latin typeface="Pigiarniq"/>
              </a:rPr>
              <a:t>ᓇᐃᑦᑐᕐᖠᖅᑐᖅ </a:t>
            </a:r>
            <a:r>
              <a:rPr b="0" lang="id-ID" sz="2400" spc="-1" strike="noStrike">
                <a:solidFill>
                  <a:srgbClr val="000000"/>
                </a:solidFill>
                <a:latin typeface="Pigiarniq"/>
              </a:rPr>
              <a:t>ᐊᐅᔭᖅ ᐃᓱᓕᑦᑕᕌᖓᑦ ᐃᓄᐃᑦ ᑲᑎᓪᖢᑎᒃ ᓂᕈᐊᖃᑦᑕᕐᖢᑎᒃ ᑐᒃᑑᑦ ᐊᒥᖏᓐᓂᒃ ᐅᑭᐅᒧᑦ ᐊᑐᕐᓂᐊᖅᑕᒥᖕᓂᒃ ᖁᓕᒃᑕᒃᓴᓂᒃ ᐊᒻᒪ ᖁᕕᐊᓱᒍᑎᖃᕐᖢᑎᒃ ᑐᒃᑐᑦᑐᓐᓇᓚᐅᕐᓂᖏᓐᓄᑦ ᐊᒻᒪ ᖁᕕᐊᓇᓚᐅᕐᓂᖓᓄᑦ. ᐊᖓᔪᖅᑳᒃᑲ ᐸᕐᓇᖃᑦᑕᓚᐅᕐᓯᒪᔪᑦ ᑕᐃᑦᓱᒧᖓ ᐊᒻᒪ ᐃᓕᑯᖅᑲᖅᑕᐅᓪᓗᑎᒃ ᑐᒃᑐᑦ ᐊᒥᖏᑦ, ᐊᐅᔭᒃᑯᑦ ᑐᒃᑐᑕᕕᓂᐅᔪᑦ, ᐊᒻᒪ ᑭᓇᒃᑯᑐᐃᓐᓇᑦᑎᐊᑦ ᑎᒍᓯᔪᓐᓇᕐᖢᑎᒃ ᐱᐅᒋᔭᖏᓐᓂ, ᐊᒻᒪ ᑭᓇᒃᑯᓕᒫᑦᑎᐊᑦ ᑎᒍᓯᔪᓐᓇᕐᖢᑎᒃ ᑐᒃᑐᓚᐅᖏᑦᑑᒐᓗᐊᑦ.  ᑕᐃᒪᓐᓇ ᑐᒃᖃᖅᑐᖅ ᐅᖃᐅᓯᖅ ‘ᐃᑲᔪᖃᑎᒌᖕᓂᖅ’”.</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igiarniq"/>
              </a:rPr>
              <a:t>	</a:t>
            </a:r>
            <a:r>
              <a:rPr b="0" lang="en-US" sz="2600" spc="-1" strike="noStrike">
                <a:solidFill>
                  <a:srgbClr val="000000"/>
                </a:solidFill>
                <a:latin typeface="Pigiarniq"/>
              </a:rPr>
              <a:t>	</a:t>
            </a:r>
            <a:r>
              <a:rPr b="0" lang="en-US" sz="2600" spc="-1" strike="noStrike">
                <a:solidFill>
                  <a:srgbClr val="000000"/>
                </a:solidFill>
                <a:latin typeface="Pigiarniq"/>
              </a:rPr>
              <a:t>	</a:t>
            </a:r>
            <a:r>
              <a:rPr b="0" lang="en-US" sz="2000" spc="-1" strike="noStrike">
                <a:solidFill>
                  <a:srgbClr val="000000"/>
                </a:solidFill>
                <a:latin typeface="Pigiarniq"/>
              </a:rPr>
              <a:t>- </a:t>
            </a:r>
            <a:r>
              <a:rPr b="0" lang="id-ID" sz="2000" spc="-1" strike="noStrike">
                <a:solidFill>
                  <a:srgbClr val="000000"/>
                </a:solidFill>
                <a:latin typeface="Pigiarniq"/>
              </a:rPr>
              <a:t>ᓇᐃᑕᓐ ᖃᒪᓂᖅ, ᐊᒥᑦᑐᖅ</a:t>
            </a:r>
            <a:r>
              <a:rPr b="0" lang="en-US" sz="2000" spc="-1" strike="noStrike">
                <a:solidFill>
                  <a:srgbClr val="000000"/>
                </a:solidFill>
                <a:latin typeface="Pigiarniq"/>
              </a:rPr>
              <a:t>*</a:t>
            </a:r>
            <a:endParaRPr b="0" lang="en-US" sz="2000" spc="-1" strike="noStrike">
              <a:solidFill>
                <a:srgbClr val="000000"/>
              </a:solidFill>
              <a:latin typeface="Arial"/>
            </a:endParaRPr>
          </a:p>
        </p:txBody>
      </p:sp>
      <p:sp>
        <p:nvSpPr>
          <p:cNvPr id="50" name=""/>
          <p:cNvSpPr/>
          <p:nvPr/>
        </p:nvSpPr>
        <p:spPr>
          <a:xfrm>
            <a:off x="990720" y="6248520"/>
            <a:ext cx="739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igiarniq"/>
              </a:rPr>
              <a:t>*</a:t>
            </a:r>
            <a:r>
              <a:rPr b="0" i="1" lang="id-ID" sz="1200" spc="-1" strike="noStrike">
                <a:solidFill>
                  <a:srgbClr val="000000"/>
                </a:solidFill>
                <a:latin typeface="Pigiarniq"/>
              </a:rPr>
              <a:t>ᐱᔭᐅᔪᑦ</a:t>
            </a:r>
            <a:r>
              <a:rPr b="0" i="1" lang="en-US" sz="1200" spc="-1" strike="noStrike">
                <a:solidFill>
                  <a:srgbClr val="000000"/>
                </a:solidFill>
                <a:latin typeface="Pigiarniq"/>
              </a:rPr>
              <a:t>: </a:t>
            </a:r>
            <a:r>
              <a:rPr b="0" i="1" lang="id-ID" sz="1200" spc="-1" strike="noStrike">
                <a:solidFill>
                  <a:srgbClr val="000000"/>
                </a:solidFill>
                <a:latin typeface="Pigiarniq"/>
              </a:rPr>
              <a:t>ᐅᖃᓗᕋᐃᑦ,</a:t>
            </a:r>
            <a:r>
              <a:rPr b="0" lang="id-ID" sz="1200" spc="-1" strike="noStrike">
                <a:solidFill>
                  <a:srgbClr val="000000"/>
                </a:solidFill>
                <a:latin typeface="Pigiarniq"/>
              </a:rPr>
              <a:t> ᐅᓂᒃᑳᖅᑐᐊᑦ ᓄᓇᕗᒥ. ᓄᐊᑕᐅᓯᒪᔪᑦ ᑎᑎᕋᖅᑕᐅᒃᑲᓐᓂᕐᖢᑎᒡᓗ ᔭᓐ ᐱᓇᑦ ᐊᒻᒪ ᓱᓴᓐ ᕋᐅᓕ</a:t>
            </a:r>
            <a:r>
              <a:rPr b="0" lang="en-US" sz="1200" spc="-1" strike="noStrike">
                <a:solidFill>
                  <a:srgbClr val="000000"/>
                </a:solidFill>
                <a:latin typeface="Pigiarniq"/>
              </a:rPr>
              <a:t> (</a:t>
            </a:r>
            <a:r>
              <a:rPr b="0" lang="id-ID" sz="1200" spc="-1" strike="noStrike">
                <a:solidFill>
                  <a:srgbClr val="000000"/>
                </a:solidFill>
                <a:latin typeface="Pigiarniq"/>
              </a:rPr>
              <a:t>ᓯᓚᑦᑐᓴᕐᕕᒡᔪᐊᖓᑦ </a:t>
            </a:r>
            <a:r>
              <a:rPr b="0" lang="en-US" sz="1200" spc="-1" strike="noStrike">
                <a:solidFill>
                  <a:srgbClr val="000000"/>
                </a:solidFill>
                <a:latin typeface="Pigiarniq"/>
              </a:rPr>
              <a:t>McGill-Queen's University Press, 2004) 3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Pigiarniq"/>
              </a:rPr>
              <a:t>ᐃᓕᓐᓂᐊᕐᓂᖅ ᐱᓕᕆᓂᒃᑯᑦ</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ᑕᐅᑐᖕᓂᒃᑯᑦ</a:t>
            </a:r>
            <a:endParaRPr b="0" lang="en-US" sz="36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ᐆᒃᑐᕋᒃᑲᓐᓂᖃᑦᑕᕐᓂᒃᑯᑦ</a:t>
            </a:r>
            <a:endParaRPr b="0" lang="en-US" sz="36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ᑐᑭᓯᐊᓂ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id-ID" sz="3600" spc="-1" strike="noStrike">
                <a:solidFill>
                  <a:srgbClr val="000000"/>
                </a:solidFill>
                <a:latin typeface="Arial"/>
              </a:rPr>
              <a:t>:</a:t>
            </a:r>
            <a:br>
              <a:rPr sz="4000"/>
            </a:br>
            <a:r>
              <a:rPr b="0" i="1" lang="id-ID" sz="4000" spc="-1" strike="noStrike">
                <a:solidFill>
                  <a:srgbClr val="000000"/>
                </a:solidFill>
                <a:latin typeface="Pigiarniq"/>
              </a:rPr>
              <a:t>ᑕᐅᑐᖕᓂᒃᑯᑦ</a:t>
            </a:r>
            <a:endParaRPr b="0" lang="en-US" sz="4000" spc="-1" strike="noStrike">
              <a:solidFill>
                <a:srgbClr val="000000"/>
              </a:solidFill>
              <a:latin typeface="Arial"/>
            </a:endParaRPr>
          </a:p>
        </p:txBody>
      </p:sp>
      <p:sp>
        <p:nvSpPr>
          <p:cNvPr id="54"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ᐱᓂᐊᕐᓂᖃᕆᐊᖃᕐᒪᖔᑦ</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a:t>
            </a:r>
            <a:r>
              <a:rPr b="0" lang="id-ID" sz="2000" spc="-1" strike="noStrike">
                <a:solidFill>
                  <a:srgbClr val="000000"/>
                </a:solidFill>
                <a:latin typeface="Pigiarniq"/>
              </a:rPr>
              <a:t>ᐱᐅᔪᒥᒃ” ᐅᕝᕙᓘᓐᓂᑦ “ᐱᐅᖏᑦᑐᒥᒃ” - ᐃᓕᓐᓂᐊᕐᓂᖅ ᐊᓯᒥᖕᓂᒃ ᑕᑯᓐᓇᕐᓂᒃᑯᑦ</a:t>
            </a:r>
            <a:endParaRPr b="0" lang="en-US" sz="2000" spc="-1" strike="noStrike">
              <a:solidFill>
                <a:srgbClr val="000000"/>
              </a:solidFill>
              <a:latin typeface="Arial"/>
            </a:endParaRPr>
          </a:p>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ᐃᓄᖃᑎᒥᓄᑦ ᐱᓕᕆᖃᑕᐅᒐᔭᕐᒪᖔᑦ/ᓄᓇᖃᕐᓗᓂ ᓄᓇᓕᖕᓂ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ᓱᕈᓯᑦ ᐃᓅᖃᑎᒌᒃᑐᑦ ᐆᒃᑐᕋᐅᑎᖃᕐᓂᒃᑯᑦ</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ᓲᕐᓗ, ᓱᕈᓯᖅ ᒥᖕᓂᓕᖅᐸᑦ ᐃᓂᖅᑎᖅᑕᐅᒐᔭᖅᑐᖅ ᑐᓴᖅᑕᐅᔪᓐᓇᕐᓗᓂ ᐊᓯᖏᓐᓄᑦ</a:t>
            </a:r>
            <a:endParaRPr b="0" lang="en-US" sz="1800" spc="-1" strike="noStrike">
              <a:solidFill>
                <a:srgbClr val="000000"/>
              </a:solidFill>
              <a:latin typeface="Arial"/>
            </a:endParaRPr>
          </a:p>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ᐊᓐᓇᒡᓗᓂ ᐃᓅᔪᓐᓇᕐᒪᖔᑦ</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ᓇᖃᕐᓗᓂ ᓄᓇᒥ, ᐃᓕᓐᓂᐊᕐᓗᓂ ᐊᑐᓪᓚᕆᖕᓂᒃᑯᑦ</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ᒪᓕᒍᓐᓇᕐᓗᓂ ᐃᓄᒃᓱᒐᕐᓂᒃ, ᐃᓕᓴᕐᓯᔪᓐᓇᕐᓗᓂ ᐊᖑᓇᓱᒐᒃᓴᖏᑦ ᖃᖓᒃᑰᔭᕆᐊᖃᕐᒪᖔᑕ</a:t>
            </a:r>
            <a:r>
              <a:rPr b="0" lang="en-US" sz="2000" spc="-1" strike="noStrike">
                <a:solidFill>
                  <a:srgbClr val="000000"/>
                </a:solidFill>
                <a:latin typeface="Pigiarniq"/>
              </a:rPr>
              <a:t>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ᓕᓐᓂᐊᕐᓂᖅ ᐆᒃᑐᕋᕐᓂᒃᑯᑦ</a:t>
            </a:r>
            <a:endParaRPr b="0" lang="en-US" sz="3600" spc="-1" strike="noStrike">
              <a:solidFill>
                <a:srgbClr val="000000"/>
              </a:solidFill>
              <a:latin typeface="Arial"/>
            </a:endParaRPr>
          </a:p>
        </p:txBody>
      </p:sp>
      <p:sp>
        <p:nvSpPr>
          <p:cNvPr id="5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ᖃᑦᑕᕐᓂᖅ ᐱᐅᓯᐅᔪᒥᒃ/ᐱᓕᕆᖃᑎᖃᓂᖏᑦ:</a:t>
            </a:r>
            <a:r>
              <a:rPr b="0" lang="en-US" sz="2800" spc="-1" strike="noStrike">
                <a:solidFill>
                  <a:srgbClr val="000000"/>
                </a:solidFill>
                <a:latin typeface="Pigiarniq"/>
              </a:rPr>
              <a:t>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ᐆᒃᑑᑎᓕᐊᕆᔭᐅᔪᓂᒃ ᐃᓐᓇᕐᓄᑦ, ᐊᖓᔪᖅᑳᓄᑦ, ᐅᓇᓱᖏᓐᓄᓪᓗ</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ᕆᖃᑎᖃᕐᓂᖏᑦ ᐃᓚᒥᖕᓄᑦ, ᓄᓇᓕᖏᓐᓂᓗ ᐊᔾᔪᒥᒋᔭᐅᓗᓂ ᐃᔾᔪᐊᑕᐅᔪᓐᓇᕐᓗᓂ ᓱᕈᓯᕐᓄᑦ</a:t>
            </a:r>
            <a:endParaRPr b="0" lang="en-US" sz="20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ᒡᓗᓂ ᐅᔾᔨᕈᓱᖕᓂᖅ:</a:t>
            </a:r>
            <a:endParaRPr b="0" lang="en-US" sz="2800" spc="-1" strike="noStrike">
              <a:solidFill>
                <a:srgbClr val="000000"/>
              </a:solidFill>
              <a:latin typeface="Arial"/>
            </a:endParaRPr>
          </a:p>
          <a:p>
            <a:pPr lvl="3" marL="16002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ᓲᕐᓗ ᑕᑯᓐᓇᕐᓗᓂᐅᒃ ᐊᑖᑕᖓ ᐱᓚᒃᑐᖅ, ᐃᓕᓐᓂᐊᕐᓗᓂᓘᓐᓃᑦ ᒥᕐᓱᕐᓂᕐᒥᒃ ᐊᓈᓇᒥᓂᑦ</a:t>
            </a:r>
            <a:endParaRPr b="0" lang="en-US" sz="18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ᒡᓗᓂ ᐅᔾᔨᕈᓱᖕᓂᖅ ᐊᕙᑎᒥᐅᑕᒥᓂᒃ:</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ᖃᐅᔨᒪᓂᖓ ᓄᓇᒥᒃ/ᓯᓚᒥᒃ, ᐃᓄᒃᓱᒐᕐᓂᕐᓗ ᐅᔾᔨᕈᓱᖕᓂᖅ, ᖃᓄᐃᑦᑑᓂᖏᓪᓗ ᓄᕗᔭᐃᑦ, ᑖᒃᑯᐊ ᐆᒃᑑᑎᒋᓗᒋᑦ</a:t>
            </a: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01:43:46Z</dcterms:created>
  <dc:creator>Leah Blain</dc:creator>
  <dc:description/>
  <dc:language>en-US</dc:language>
  <cp:lastModifiedBy> </cp:lastModifiedBy>
  <cp:lastPrinted>2007-02-06T20:07:45Z</cp:lastPrinted>
  <dcterms:modified xsi:type="dcterms:W3CDTF">2007-02-22T16:22:14Z</dcterms:modified>
  <cp:revision>68</cp:revision>
  <dc:subject/>
  <dc:title>Learning By Doing:</dc:title>
</cp:coreProperties>
</file>