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9AB3-0266-4B09-AD8D-1F09167C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00B-B552-4D90-A637-CFD07025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4D5-8D57-4937-897E-358C8607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EA9-2311-4994-B9EB-155CF87C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361-D9F1-42DF-9C49-253408BA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D92-1DE1-4CB1-B278-4B6BE75F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C84-181B-4CC0-8C93-62F6F02C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235-229F-4CB2-9D24-785FDA6E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344-4662-4640-9064-259E0DE2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131-672D-4BAA-A9CC-E1AA5457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C72-66F8-43F4-9EAD-D3F43A9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538-8B2F-4B0D-AAB9-D91A101C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A74-BF0B-48F0-A8DC-DA4626D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07D9-3B33-4E28-A439-3ED0302CA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000000"/>
                </a:solidFill>
                <a:latin typeface="Pigiarniq"/>
              </a:rPr>
              <a:t>ᐃᒻᒥᓂᒃ ᒪᑭᑕᔪᓐᓇᖅᑐᖅ ᓄᓇᓕ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66880" y="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ᒪᒃᑯᒃᑐ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838080"/>
            <a:ext cx="731520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ᐊᑲᐅᓂᖅᐹᖑᖅᑰᖅᑐᖅ ᐸᕐᓇᖕᓂᐊᕐᓗᓂ (ᓯᕗᓂᒃᓴᒧᑦ) ᐱᓕᒻᒪᒃᓴᖃᑦᑕᕐᓗᓂ ᐊᒻᒪ ᐱᓕᕆᑦᑎᐊᒻᒪᕆᖃᑦᑕᕐᓗᓂ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ᐃᓄᒃ ᒪᒃᑯᒃᑐᖅ, ᕗᕋᓐ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 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ᑲᓇᑕᒥ ᐃᓄᐃᑦ ᒪᒃᑯᒃᑐᑦ ᑲᑎᒪᕐᔪᐊᖅᑎᓪᓗᒋᑦ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ᐸᕐᓇᖕᓂᐊᕐᓗᓂ ᓯᕗᓂᒃᓴᒧᑦ ᖃᓄᐃᖏᑦᑎᐊᕆᐊᖃᕋᑦᑕ...ᖃᓄᐃᖏᑦᑎᐊᖅᑎᓪᓗᑕ ᐃᑲᔪᖃᑎᒌᒍᓐᓇᕋᑦᑕ, ᐱᔭᕇᕐᓯᔪᓐᓇᖅᑐᒍᑦ ᑭᓱᑐᐃᓐᓇᑦᑎᐊᒥᒃ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 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ᑲᑐᕆᓐ ᓯᐳ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ᑲᓇᑕᒥ ᐃᓄᐃᑦ ᒪᒃᑯᒃᑐᑦ ᑲᑎᒪᕐᔪᐊᖅᑎᓪᓗᒋᑦ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7400" y="53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ᐃᓕᓐᓂᐊᕐᓂᓕᕆᓂ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981080"/>
            <a:ext cx="8229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ᖃᓪᓗᓈᑦ ᓄᓇᖓᓂᕐᒥᐅᑕᑐᐊᖑᖏᑦᑐᑦ ᓄᓇᕗᒥᒃ ᐃᓕᓐᓂᐊᓕᖅᑐᑦ, ᓄᓇᕗᒥᑕᐅᔪᑦᑕᐅᖅ ᐃᓕᓐᓂᐊᖅᑐᑦ ᑭᓇᐅᓂᕐᒥᖕᓂᒃ, ᓇᒧᓐᖓᐅᓂᕐᒥᖕᓂᒃ, ᐊᒻᒪ ᐱᓗᐊᖅᑐᒥᒃ ᒪᒃᑯᒃᑐᑦ.  ᑖᒃᑯᐊ ᓂᕆᐅᖕᓂᖃᑦᓯᐊᖅᑐᑦ ᐊᒻᒪ ᐱᓕᕆᔪᒪᓂᖃᑦᓯᐊᖅᑐᑦ ᖃᓄᐃᓕᓂᖃᕐᓂᐊᕐᒪᖔᑦ ᓄᓇᕗᑦ ᒐᕙᒪᒃᑯᖏᑦ ᐱᑕᖃᓕᖅᐸᑕ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ᐄᕙ ᐋᕆᐊᒃ - ᐅᖃᐅᓯᓕᕆᓂᕐᒧᑦ ᑲᒥᓴᓇᐅᓚᐅᕐᓯᒪᔪᖅ ᓄᓇᕗ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ᐊᐅᓚᔾᔭᐃᓂᖅ ᑐᕌᒐᖃᕐᓗᓂ ᐃᒻᒥᓂᒃ ᒪᑭᑕᔪᓐᓇᑦᑎᐊᖅᑐᒥᒃ ᓯᕗᓂᒃᓴᖃᕐᓂᕐᒥ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Pigiarniq"/>
              </a:rPr>
              <a:t>“ </a:t>
            </a:r>
            <a:r>
              <a:rPr b="0" i="1" lang="id-ID" sz="2800" spc="-1" strike="noStrike">
                <a:solidFill>
                  <a:srgbClr val="333399"/>
                </a:solidFill>
                <a:latin typeface="Pigiarniq"/>
              </a:rPr>
              <a:t>ᕿᒫᖏᓪᓗᑎᑦ ᐊᑲᐅᓐᖏᓕᐅᕈᑎᒋᔭᕐᓂᑦ, ᓵᓪᓗᖔᕐᓗᒍ</a:t>
            </a:r>
            <a:r>
              <a:rPr b="0" i="1" lang="en-US" sz="2800" spc="-1" strike="noStrike">
                <a:solidFill>
                  <a:srgbClr val="333399"/>
                </a:solidFill>
                <a:latin typeface="Pigiarniq"/>
              </a:rPr>
              <a:t>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Pigiarniq"/>
              </a:rPr>
              <a:t>– </a:t>
            </a:r>
            <a:r>
              <a:rPr b="0" i="1" lang="id-ID" sz="2800" spc="-1" strike="noStrike">
                <a:solidFill>
                  <a:srgbClr val="333399"/>
                </a:solidFill>
                <a:latin typeface="Pigiarniq"/>
              </a:rPr>
              <a:t>ᓘᒃᑖᖅ ᐲᑕ ᐃᕐᓂ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333399"/>
                </a:solidFill>
                <a:latin typeface="Pigiarniq"/>
              </a:rPr>
              <a:t>ᑲᒥᓴᓇᐅᓚᐅᕐᓯᒪᔪᖅ ᓄᓇᕗᒧ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0666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Pigiarniq"/>
              </a:rPr>
              <a:t>ᑭᓲᕙ ᐃᓄᐃᑦ ᖃᐅᔨᒪᔭᑐᖃᖏᑦ?</a:t>
            </a: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752480"/>
            <a:ext cx="82296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ᖃᐅᔨᒪᔭᑐᖃᖏᑦ ᑕᐃᓯᕗᖅ “ᖃᓄᐃᖏᑦᑎᐊᖅᑐᓄᑦ, “ᒪᑭᒪᔪᓐᓇᖅᑐᓄᑦ ᓇᖕᒥᓂᖅ ᓄᓇᓕᐅᔪ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ᐅᑎᖅᑎᑦᑎᔪᑦ ᐱᔪᓐᓇᐅᑎᒥᖕᓂᒃ ᓂᓪᓕᐅᑎᖃᕈᓐᓇᕐᓂᕐᒧᑦ ᒪᓕᒐᓕᐅᖅᑕᐅᑎᓪᓗᒋᑦ ᐃᓅᓯᖏᑦ ᐊᑐᕐᖢᑎᒃ ᒪᓕᒐᕐᓂᒃ ᐊᒻᒪ ᐃᓄᐃᑦ ᐱᖅᑯᓯᑦᑎᐊᕙᖏᓐᓂᒃ ᐃᓚᒋᔭᐅᓪᓗᑎᒡᓗ ᑭᓇᐅᓂᖏᓐᓄᑦ ᐊᒻᒪ ᑭᓲᓂᖏᓐᓄᑦ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-- 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ᔭᐃᐱᑎ ᐊᕐᓇᒃᑲ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(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ᓄᓇᕗᒥ ᐃᓅᓯᓕᕆᓂᕐᒧᑦ ᐱᕙᓪᓕᐊᑎᑦᑎᓂᕐᒧᑦ ᑲᑎᒪᔨ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igiarniq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45720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ᐃᓐᓇᐃ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4582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ᐃᓄᐃᑦ ᐃᓕᖅᑯᓯᖏᓐᓂ ᐅᒃᐱᕆᔭᐅᔪᖅ ᑐᐊᕕᕆᐊᖃᖏᓐᓂᖏᓐᓂᒃ ᐊᓯᔾᔨᕐᓯᑎᓪᓗᒋᑦ, ᑭᓯᐊᓂᓕ ᐊᓯᔾᔨᖅᑕᐅᓂᐊᖅᑐᑦ ᐃᓱᒪᒃᓴᕐᓯᐅᕈᑕᐅᑦᑎᐊᓚᐅᕐᓗᑎᒃ, ᐸᕐᓇᒃᑕᐅᑦᑎᐊᓚᐅᕐᓗᑐᒃ ᐊᒻᒪ ᐃᖅᑲᒋᓗᒋᑦ ᑕᐃᒃᑯᐊ ᐱᔨᑦᓯᖅᑕᑎᑦ. ᐊᐱᕆᕙᒃᑕᕗᑦ ᐃᓐᓇᐅᔪᑦ ᖃᐅᔨᒪᓂᖅᓴᐅᓂᖏᓐᓄᑦ ᐅᕙᑦᑎᓐᓂᑦ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-- 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ᐄᕙ ᐋᕆᐊᒃ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 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ᐅᖃᐅᓯᓕᕆᓂᕐᒧᑦ ᓄᓇᕗᒥ ᑲᒥᓴᓇᐅᓚᐅᕐᓯᒪᔪᖅ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 @ 5  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ᑲᑎᒪᕐᔪᐊᖅᑎᓪᓗᒋ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ᐊᑲᐃᑎᐊ ᓯᓚᑦᑐᓴᕐᕕᒡᔪᐊᖓ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609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ᐃᓐᓇᐃ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905120"/>
            <a:ext cx="7696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ᐃᓐᓇᑐᖃᐃᑦ ᐃᓄᐃᑦ ᖃᐅᔨᒪᓂᕐᒥᖕᓂᒃ ᑐᓂᓯᔭᕆᐊᖃᖅᐳᑦ; ᐊᑕᐅᑦᑎᒃᑯᓪᓗ, ᑖᒃᑯᐊ ᓄᖃᕐᖠᐅᔪᑦ ᕿᓂᖅᑎᓪᓗᒋᑦ ᓇᑭᓐᖓᔭᐅᖕᒪᖔᑕ ᑕᐃᑦᓱᒪᓂᑐᖄᓗᒃ ᐃᓕᖅᑯᓯᑐᖃᕆᔭᖏᑦ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.”</a:t>
            </a:r>
            <a:r>
              <a:rPr b="0" lang="en-US" sz="18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33399"/>
                </a:solidFill>
                <a:latin typeface="Pigiarniq"/>
              </a:rPr>
              <a:t>ᑕᕐᕆᔭᓕᐅᖅᑎᑦ ᑕᓕᕕᐅᒻ ᑲᓇᑕ</a:t>
            </a:r>
            <a:r>
              <a:rPr b="0" lang="en-US" sz="1800" spc="-1" strike="noStrike">
                <a:solidFill>
                  <a:srgbClr val="333399"/>
                </a:solidFill>
                <a:latin typeface="Pigiarniq"/>
              </a:rPr>
              <a:t> – </a:t>
            </a:r>
            <a:r>
              <a:rPr b="0" lang="id-ID" sz="1800" spc="-1" strike="noStrike">
                <a:solidFill>
                  <a:srgbClr val="333399"/>
                </a:solidFill>
                <a:latin typeface="Pigiarniq"/>
              </a:rPr>
              <a:t>ᓄᓇᕗᒥ ᐃᓐᓇᐃᑦ ᑕᕐᕆᔭᓕᐅᖅᑕᐅᑎᓪᓗᒋ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ᐃᓚᒌᑦ ᐊᒻᒪ ᐃᖅᑲᒍᓱᖕᓂ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333399"/>
                </a:solidFill>
                <a:latin typeface="Pigiarniq"/>
              </a:rPr>
              <a:t>ᐊᒃᑐᐊᖃᑎᒌᖕᓂᕐᒧᑦ ᐱᐅᓯᑦᑎᐊᕙᐅᔪ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ᐊᒥᖅᑳᕐ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ᐃᖅᑲᒍᓱᖕ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ᐃᓚᒌ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ᐅᐱᒍᓱᖕ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ᓇᒡᓗᒍᓱᖕ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ᓈᓚᖕ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ᐊᔾᔨᒌᒃᑎᑦᑎ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ᐱᒻᒪᕆᐅᑎᑦᑎ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Pigiarn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ᐅᒃᐱᕆᔭᖃᕐᓂ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(2005 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ᐱᓕᕆᕕᖓᑦ ᐃᖅᑲᓇᐃᔭᖅᑐᓕᕆᔨᒃᑯᑦ, ᓄᓇᕗᑦ ᒐᕙᒪᒃᑯᖏᑦ</a:t>
            </a: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Pigiarniq"/>
              </a:rPr>
              <a:t>ᓄᓇᓕ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“</a:t>
            </a: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ᐃᓕᓐᓂᐊᖅᑎᑕᐅᓚᐅᕐᓯᒪᕗᒍᑦ ᐱᑦᑎᐊᖃᑦᑕᖁᔭᐅᓪᓗᑕ ᐊᓯᑦᑎᓐᓄᑦ ᐊᒻᒪ ᐃᑲᔪᖃᑦᑕᖁᔭᐅᓪᓗᑕ ᐃᒻᒥᖕᓂᒃ ᓴᐳᑎᔪᓐᓇᖏᑦᑐᓂᒃ</a:t>
            </a:r>
            <a:r>
              <a:rPr b="0" lang="en-US" sz="3200" spc="-1" strike="noStrike">
                <a:solidFill>
                  <a:srgbClr val="000000"/>
                </a:solidFill>
                <a:latin typeface="Pigiarniq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Pigiarniq"/>
              </a:rPr>
              <a:t>ᒥᐊᕆᐊᒻ ᐊᒡᓘᒃᑲ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ᖃᐃᖅᑯᔭᐅᓯᒪᔪᖅ ᐃᓐᓇᖅ</a:t>
            </a: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ᓄᓇᕗᒥ ᑕᓪᓕᒪᒋᓕᖅᑕᖓᓐᓂ ᑲᑎᒪᕐᔪᐊᖅᑐ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igiarniq"/>
              </a:rPr>
              <a:t>Acadia University</a:t>
            </a:r>
            <a:r>
              <a:rPr b="0" lang="id-ID" sz="2000" spc="-1" strike="noStrike">
                <a:solidFill>
                  <a:srgbClr val="000000"/>
                </a:solidFill>
                <a:latin typeface="Pigiarniq"/>
              </a:rPr>
              <a:t> ᓯᓚᑦᑐᓴᕐᕕᒡᔪᐊ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Pigiarniq"/>
              </a:rPr>
              <a:t>ᐊᕙᑎᒧᑦ ᐊᒃᑐᐊᓂ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752480"/>
            <a:ext cx="84582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[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ᑮᓇᐅᔭᓕᐅᕈᑎᖃᕋᓱᐊᕐᓂᒧᑦ ᐱᕙᓪᓕᐊᑎᑦᑎᓂᖅ ᐊᒻᒪ ᐊᕙᑎᒧᑦ ᒪᑭᒪᔾᔪᑎᖃᕐᓂᖅ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ᐱᔭᕆᐊᖃᖏᑦᑐᑦ ᓇᓕᐊᖕᓄᑐᐃᓐᓇᖅ ᐊᑭᓴᖅᑐᐃᓗᓂ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ᕕᒃᑐ ᑐ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ᒥᓂᔅᑕᐅᑉ ᑐᖏᓕᖓᑕ ᐃᑲᔪᖅᑎᒋᓚᐅᕐᓯᒪᔭᖓ ᐋᓐᓂᐊᖃᕐᓇᖏᑦᑐᓕᕆᓂᕐᒧᑦ ᐊᒻᒪ ᐃᓄᓕᕆᓂᕐᒧ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ᓄᓇᕗᑦ ᑕᓪᓕᒪᖓᓐᓂ ᑲᑎᒪᕐᔪᐊᖅᑎᓪᓗᒋ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igiarniq"/>
              </a:rPr>
              <a:t>Acadia University</a:t>
            </a:r>
            <a:r>
              <a:rPr b="0" lang="id-ID" sz="2000" spc="-1" strike="noStrike">
                <a:solidFill>
                  <a:srgbClr val="333399"/>
                </a:solidFill>
                <a:latin typeface="Pigiarniq"/>
              </a:rPr>
              <a:t> ᓯᓚᑦᑐᓴᕐᕕᒡᔪᐊ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33720" y="5335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Pigiarniq"/>
              </a:rPr>
              <a:t>ᐅᐊᔭᒨᖅᑐᑦ ᐱᓕᕆᔾᔪᑎ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371600"/>
            <a:ext cx="72392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"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ᕿᑐᕐᖓᒃᑲ ᐃᕐᖑᑕᒃᑲᓗ ᖃᐅᔨᒪᖁᓇᔭᖅᑕᒃᑲ </a:t>
            </a:r>
            <a:r>
              <a:rPr b="0" i="1" lang="id-ID" sz="2800" spc="-1" strike="noStrike">
                <a:solidFill>
                  <a:srgbClr val="333399"/>
                </a:solidFill>
                <a:latin typeface="Pigiarniq"/>
              </a:rPr>
              <a:t>ᐃᓄᒻᒪᕇᑦ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 ᐱᐅᓯᖏᓐᓂᒃ, ᑭᓯᐊᓂᑦᑕᐅᖅ ᓯᕗᒧᐊᑦᑎᐊᖁᒐᔭᖅᑕᒃᑲ ᐅᓪᓗᒥᓯᐅᑎᓂᒃ ᐃᓕᓐᓂᐊᕈᑎᓂᒃ, ᓴᓇᕝᕕᒃᓴᖃᑦᑎᐊᓛᕐᒪᑕ, ᐊᒻᒪ ᐊᑐᕈᓐᓇᑦᑎᐊᕐᓗᑎᒃ ᖃᕆᑕᐅᓴᓂᒃ</a:t>
            </a: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."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Pigiarniq"/>
              </a:rPr>
              <a:t>-</a:t>
            </a:r>
            <a:r>
              <a:rPr b="0" lang="id-ID" sz="2800" spc="-1" strike="noStrike">
                <a:solidFill>
                  <a:srgbClr val="333399"/>
                </a:solidFill>
                <a:latin typeface="Pigiarniq"/>
              </a:rPr>
              <a:t>ᔮᓐ ᖃᐅᓐᓇ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(</a:t>
            </a:r>
            <a:r>
              <a:rPr b="0" lang="id-ID" sz="2400" spc="-1" strike="noStrike">
                <a:solidFill>
                  <a:srgbClr val="333399"/>
                </a:solidFill>
                <a:latin typeface="Pigiarniq"/>
              </a:rPr>
              <a:t>ᓇᐅᔮᕐᒥᐅᑕᖅ, ᓄᓇᕗᒥ</a:t>
            </a:r>
            <a:r>
              <a:rPr b="0" lang="en-US" sz="2400" spc="-1" strike="noStrike">
                <a:solidFill>
                  <a:srgbClr val="333399"/>
                </a:solidFill>
                <a:latin typeface="Pigiarniq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4:11:05Z</dcterms:created>
  <dc:creator>077399w</dc:creator>
  <dc:description/>
  <dc:language>en-US</dc:language>
  <cp:lastModifiedBy> </cp:lastModifiedBy>
  <dcterms:modified xsi:type="dcterms:W3CDTF">2007-02-22T18:11:48Z</dcterms:modified>
  <cp:revision>54</cp:revision>
  <dc:subject/>
  <dc:title>Sustainable Community</dc:title>
</cp:coreProperties>
</file>